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F3A-4194-4E1E-BE89-F5BE5AFC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9C82-0B58-4C7A-8F1E-F471E66D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9C3-AC00-478A-BBEE-626AC7CF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94E-FE49-4823-A64C-38C0C26C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726-75CC-4B2B-BC14-B3B73786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FC9-5CE6-486E-8179-19943775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A7B8-71B5-4C8F-96E1-CC63B42D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96D-15B5-4974-8CA4-3350B9B0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531-7565-4A5C-9589-CBA9BB30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2774-D454-408B-8747-E519748B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E6E-9268-481E-B8B5-D8F89D90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F84-09BD-4CB4-8E0A-AABF6AE6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42F2-CF15-4479-BB31-629B4BD94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FE41-08CB-4465-A344-2F75D31C24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 can have any member sco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wo ways for a class to have a public no-argument construc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ass defin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ors at all. In this case, the compiler in effect provides a public no-argument con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ass explicitly defines a public no-argument con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7C3-2393-4C17-A39A-E6D9270058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class defines any constructors at all, the compiler do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vide a public no-argument constru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 can be used to restrict and to guide object construction. For instance, if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m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’s only constructor expects employee’s name as a string, then only nam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m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yees can be constru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1EE9-A1B5-432D-9D4F-A9F0AA8C6A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referenced objects can be constructed. The code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 new Date(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 are typically overloaded; that is, a class typically has several constru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D8F-ABFD-4806-A2C0-F5914F81C7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can have private, package, protected, or public sco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must have a return type o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place of a return type, if the method does not return a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can be overridden so long as the methods differ in name or number and order of argument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FE10-DB65-40FA-89F9-7045A0608B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turn type cannot be used to distinguish two methods. The code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C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() { /*...*/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at m() { /*...*/ } //**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B64-E84F-4A25-B33A-080BD7DB07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d pair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t/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s can be used to define class properties. The code seg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Window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Border( Color c ){/*...*/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lor getBorder() {/*...*/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s with a col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per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B7A-5D57-4281-A33F-0E6D35198B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can construct an object of its encapsulating class’s type and return a reference to the object. Such methods are know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tory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re an alternative to explicit constructor invo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can access only othe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229-62B9-4BD7-9758-AAEAF7EF1C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eld can have private, package, protected, or public scope. Because fields often provide low-level implementation support, they are often priv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eld has a default value if not initialized in its declaration. Zero is the default value for numbers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 Field object references default t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F37D-7A54-4024-87F3-62E6E457A1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d classes can be collected into a package, which then serves as a software libr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 packages provide many rich examples. For instance,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ava.n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 provides a class library for network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D8DD-94E7-4DC7-BCA6-4E8146E794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way to gain fluency in a class or class library is to write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st cli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at is, a program that explores and tests a class’s or a class library’s serv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mer-defined class should be accompanied by a test client that illustrates typical client use of th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EDB6-2C57-4A68-83CE-136443CECF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nd member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op-level class (i.e., a class not nested inside another) has either package or public sco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C { /*...*/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Q { /*...*/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scope is the defa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must be declared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have public sco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DD09-62E9-4E22-B6D6-2D30B31239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nd member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with package scope is accessible in the same package, whether the package be default or explicitly na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with public scope is accessible outside of its containing package as well as inside of its containing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281-F4F2-48E2-99F3-B9ECB39792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nd member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embers can have private, package, protected, or public sco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scope is the default for class members just as package scope is the default for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have nonpackage scope, a member must be declared explicitly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publ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54E-4E2D-4C1D-8F64-04F4C5C09C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nd member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ass decl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C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   int n1;  // pri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n2;  //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tected int n3;  // 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   int n4;  //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s possible member sco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3A9-2310-4B4A-8A31-47D8145B05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nd member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mber with private scope is accessible only within its encapsulating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mber with package scope is accessible only within its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mber with protected scope is accessible in its containing package and in subclasses of its encapsulating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094-A59C-4B03-B365-C4558288B3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nd member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mber with public scope is accessible wherever its encapsulating class is acce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ember with public scope is encapsulated in a class with package scope, the public member is accessible only in the containing pack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3AE-39E2-442F-98EA-ADDBDA94D5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nd member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hiding dictates that a class and its members should have the narrowest possible scope consistent with class servic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members are typically constructors and high-level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3B3-9270-4D9E-8F25-0C2278E214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 are used with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erator to construct class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rete 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lass for which instances can be constructed.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stract 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not have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tructor must have the name of its encapsulating class and no return type o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place of a return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79C3-3F6F-4545-83E4-718279573E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00:37:54Z</dcterms:created>
  <dc:creator>IPD</dc:creator>
  <dc:description/>
  <dc:language>en-US</dc:language>
  <cp:lastModifiedBy>IPD</cp:lastModifiedBy>
  <dcterms:modified xsi:type="dcterms:W3CDTF">2000-12-04T04:10:23Z</dcterms:modified>
  <cp:revision>17</cp:revision>
  <dc:subject/>
  <dc:title>Chapter 5</dc:title>
</cp:coreProperties>
</file>