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B467-A4AC-44BA-B265-1C9F12CAE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7B03-5B24-4AE6-9CA9-98B23F83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0169-A616-4555-8276-59BB1EDEC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0D4B-9ECB-4545-B78F-3DFFE4149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F50D-0F7F-42FB-A158-33872D74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E49F-39E9-43F5-A6C8-918A7556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7D70-41AC-45B3-8D42-97847194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8759-71D7-4E8A-A977-A226B437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CC24-38AC-46C3-BFA2-69184CEA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33AB-E5C3-4A10-A8A9-605C27C6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C011-3F72-432E-8266-824B2C8E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BE47-3623-4128-8893-2DB6B867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8972-6E39-4F75-80E9-FFFCB85ED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ory 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85F1-60F5-420E-ACE8-A00E350B4E7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irst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ource code begins with three comments, each introduced with a double slash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A double-slash comment runs until the end of the l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gram’s single class is name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its body is enclosed in curly braces { 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las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ncapsulates a singl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tati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 name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DB68-F922-41A4-87C2-975FC5AD2A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irst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quire that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defined with the attribute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replace of a return type such a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signal that the method does not return a 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pects one argument, a reference to an array that can hold references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A14C-6833-4799-B1F1-90C852E034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irst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tring[ ]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cates that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for “array”) refers to an array. In general, the square brackets indicate an array. In this case, the array can hold references t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, which are any command-line arguments passed to the pro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DE46-CCEF-4325-965C-CD350640B1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irst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print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( “Hello, world!”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yst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standard Java class that represents the system on which the program execu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ield in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yst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and its type i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other standard Java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D3F9-4E9C-47F8-A57F-88B08502E6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irst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gram’s print statement, the part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yst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separated by the member operator, the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int statement is terminated by a semicol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Java, the semicolon terminates stat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6C3A-7D4A-4647-B68A-9EFFE380D4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i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gram has a single class name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A programmer-defined class can have any name except a Java keyword such a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names are case sensitive. A class name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distinct from one name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0802-149A-4B5C-ABF9-38AF8E5F9A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impor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programs often includ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mpor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ments such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mport java.util.Dat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convenience. If a program requires the standar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, for instance, then the fully qualified nam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java.util.D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ust be used if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mpo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omit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7C71-1C24-45F5-9852-ABB604FED3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impor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* can be used to import all classes in a package but not to import subpackages. The stat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java.util.*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java.awt.*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java.awt.event.*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lustr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7DC4-4934-46C6-B6A0-3733261C1B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elds and local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lass can encapsulate fields and constructors and methods can have local vari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Java, all fields and local variables must be declared before they are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variable declaration specifies the variable’s name, data type, and any attributes such a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E9D0-F5CA-4A72-9E72-654FDE6A91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elds and local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elds have default values but local variables do not. In the code se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C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m() { int x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n; // default value i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el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a default val but local variabl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es not have a default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7C31-D4DA-4F37-8FC1-83F0D6AF22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tting star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reate and run a Java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 text file with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jav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tension for the source code. For instance, source code for a first program might reside in the fi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.jav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the source c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e the source code into binary c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e the binary c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6374-CD2E-4754-B029-409B1F0BD9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itializing local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local variables do not have default values, they must be initialized before being used, for example, in function calls or as the source in an assignment op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ocal variable can be initialized in its declar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 x = -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veni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3408-E3B0-4269-8312-6785BC4380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ment is used for tests. Its simplest for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n1 = 1, n2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 n1 &lt; n2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( n1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dition is enclosed in parentheses and must evaluate to a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DB72-5122-4BFF-A179-CCEDE791F8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body of an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ment contains multiple statements, the body must be enclosed in curly bra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n1 = 1, n2 = 3, n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 n1 &lt; n2 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3 = n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( n1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 // end of 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F46C-C00E-4804-8C63-6DDE63E3BB5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truct can be used for multiway decisions through the use o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lse 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u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n1 = 1, n2 = 3, mi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 n1 &lt; n2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in = n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in = n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C656-98AF-43F4-B0AC-1FF40D330F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ment is one of three loop constru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op is suited for conditional looping, that is, looping until a specified condition is satisf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ment is similar in syntax to the simpl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AFD9-538C-4108-82A0-0C8F4B7B08C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de se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n = 100, i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 ( i &lt; n 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( i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 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 // end of while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lustrates. The loop body prints the integers 0 through 9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AF8A-C42B-47C2-A2A2-CF350849281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itive types such a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class types such a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 be aggregated in arr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ys are fixed size. Once storage for an array has been allocated, the array cannot grow or shrink in si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ys of one, two, and even more dimensions can be constru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624B-8A26-444D-BD9D-E0B87B7C279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de se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[ ] nums = new int[ 100 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lares an array o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ame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nu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allocates storage for 100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rray’s cells are initialized to 0, the default value for a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gardless of whethe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um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field or a local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AB2F-8911-4DED-8AA9-7F50B3B0C1B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y elements are accessed through an index expression. The code seg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[ ] nums = new int[ 100 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i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 ( i &lt; nums.length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ms[ i ] 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lustrates by populating the array with the integers 1, 2,…,1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4B94-00B9-4A57-8A24-7555B6E3C63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array has a convenient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mber that specifies the number of elements in the array. The code se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[ ] nums = new int[ 100 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i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 ( i &lt; nums.length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ms[ i ] = i + 1; i 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lustr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553F-8FA7-4BC0-A8DA-8F9AD87EE04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il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the Java source code resides in the text fil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i.jav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Using the $ as the system prompt, the source code is compiled with the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 javac Hi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javac utility comes with the JDK (Java Development Ki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0CBB-AFA6-43A4-A22D-6A7B84226E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ay ut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provides utility classes for filling, searching, sorting, and performing other standard operations on arrays. I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nu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fers to an array of integers, the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rays.sort( nums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s the array in ascending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9417-0016-49F8-B627-18062E34041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provides two standard classes,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tringBuff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string process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are immutable bu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Buff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ouble quoted string such a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“hi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reference to a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9111-4A01-4A05-AC14-DDE2775C7E6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class has a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oString(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nce method that returns an appropriate string representation. For example, the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( new Date()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s a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a human-readable st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oString(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n example of a polymorphic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2E2D-6D8E-4C5F-A0D3-D6B2974C4FF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apper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provides “wrapper” classes such a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primitive types such a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apper classes have various uses, including data con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20BE-F4CB-4746-9E40-6A5D8E7554C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apper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de se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 num = “123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n = Integer.parseInt( num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lustrates data conversion with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rappe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apper classes also can be used to store primitive types in “object-only” constructs such a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ash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B7B0-5A85-4568-8321-CD5E58CBE6F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ard utility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ckage has an assortment of utility classes such a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representing dates,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generating random numbers of various types,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 dynamically sized aggregates of class types,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tringTokeniz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tokenizing strings, and so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ED57-8890-46EC-B329-E2276823C29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i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iling a source file such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i.jav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s one or more binary files with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cla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tension, e.g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i.cla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fatal errors occur during compilation, the process ends with appropriate error mess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nfatal errors occur during compilation, the process continues with appropriate warn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C314-EA7E-48D2-A2A7-6AE776FD55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cu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the program has been compiled, it can executed with the java utility. For instance, if the fil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i.cla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tains a compiled standalone program, the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 java H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cutes the pro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51DB-AD15-4BBE-BE79-960620A052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iling versus execu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that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jav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tension is included in the compilation but that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clas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 is not included in the execution. Note the constra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 javac Hi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 java H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8B4F-A5EA-4EA6-9F98-40D42A5D91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irst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his program pr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  Hello, worl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the standard outp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Hi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static void main( String[ ] a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( “Hello, world!”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6726-DAB4-4EE8-9DF7-4F7C9C1C11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irst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ource code for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 resides in a text file with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jav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tension, e.g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i.java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he na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i.jav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ppropriate because the program has a single class name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Java program requires at least one source code class, a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ample illustr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0716-0020-45F3-A408-794FE9DE4F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irst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gram is a Jav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ather than, for instance,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ppl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e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are other program types. A Jav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most general and basic program ty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268C-15E2-43EB-9C53-FF6B5F4C0F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3T00:26:11Z</dcterms:created>
  <dc:creator>IPD</dc:creator>
  <dc:description/>
  <dc:language>en-US</dc:language>
  <cp:lastModifiedBy>IPD</cp:lastModifiedBy>
  <dcterms:modified xsi:type="dcterms:W3CDTF">2000-12-07T04:41:48Z</dcterms:modified>
  <cp:revision>35</cp:revision>
  <dc:subject/>
  <dc:title>Chapter 2</dc:title>
</cp:coreProperties>
</file>