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4A9F-0B16-48E0-AC9D-A12C37DE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1DFF-D1F1-49E2-8941-2300540F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C4F5-034B-4B80-9939-408335FD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ADEB-7A36-4BCC-ADB7-A3C3A194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5A02-3FDD-445F-83C3-D5862A7B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539D-7C4D-4E75-9E21-C509CDF2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5565-7FA4-4E73-A61A-98BECD55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ED01-270F-468C-8F24-723C3761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AA32-FE61-4ADA-BE22-869E524E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2287-6214-4B58-9E2E-2782F1FA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6579-EAE7-4C35-9E07-3952A4A0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8340-7F16-4135-AF0E-FA9499C9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DAE0-0B05-44D3-B4EF-05531339B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 Fundamen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2B74-902C-48F2-AD62-7763E772B8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ors and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structor cannot b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ut a method can b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ors and methods can be parameterized. The parameter names and data types must be provi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, like constructors, can be overloaded but must be distinguished by their names and/or parameter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795F-9FF0-464D-8364-25FDEF3BFE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has standard class types such 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standard nonclass or primitive types such 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 types have fixed bit sizes and ranges. For instance,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y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8 bits, its minimum value is -128, and its maximum value is +12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3063-D29E-4DC5-A30B-3FABF7D8BB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er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ger types (with bit sizes in parentheses) ar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y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8)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6)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32),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64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integer types are signed and have 2’s complement internal re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ger constant such 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f typ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2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2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of typ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7F00-BC97-4578-AD0C-C8E36A3165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er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cimal constant must not begin with a 0. An octal constant begins with a 0 and a hexadecimal constant begins with 0x or 0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ava.ma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age has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igInteg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for arbitrary-precision integer arithmet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FB3E-91B5-4475-8946-33C61E9BC5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ating-point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loating-point types ar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32 bits)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64 bit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loating-point constant such 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3.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f typ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3.14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3.14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of typ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loating-point types follow the IEEE 754 floating-point stand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1F97-D2B5-4607-9F41-33C43624EA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t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de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loat f = 3.14; //***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error because it tries to assign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to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riable. The problem can be corrected in several ways, including a cast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loat f = (float) 3.14; //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10E8-31B3-438D-8E58-742E2D5D62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t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cast operation, the target type is enclosed in parenthe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imposes restrictions on casts. For example,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such 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not be cast to any other type, and no nonboolean value can be cast t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ts should be used with great ca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CF1B-F46F-4A5F-895F-C7D62538BF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thmetic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supports the usual arithmetic operations: addition (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subtraction (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multiplication (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division (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and remainder (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rithmetic operators apply to integer and floating-point oper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also provides bit and shift operators for inte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AE7B-6294-435E-B9F1-0B2416DE7D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gnment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mbol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basic assignment oper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also provides special assignment operators such 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*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the l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de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 = 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*= 6;  // x is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ustr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9BA0-241E-4B44-B8CE-CBF0FC1A7F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based on 16-bit Unicode charac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 literals are placed in single quotes. For instance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‘A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haracter literal that could be assigned to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haracters such 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‘\n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ewline) begin with a backsla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AE9C-758F-4FBD-901A-524EEE9FFA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 parts such as packages, classes, and class members have names, which are formally know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, like all languages, has rules that govern identif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iler generates errors on invalid identif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F082-EC06-40BA-8386-84AC1C9065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ithmetic and relational operations can be performed on characters. The code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 c1 = ‘A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 c2 = c1 + 1; // ‘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 c2 &gt; c1 )    //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str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8942-6986-4C19-B345-9F123BA354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olean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has two values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lean values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ger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lean values cannot be c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lean expressions are used i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s, loops, and relational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F2F9-E821-4B1C-8A40-DA40CD6F10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has the standard relational operators for comparing values: greater than (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less than (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greater than or equal to (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gt;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less than or equal to (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equals (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and not equals (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quality operator should be used with caution on floating-point values and object refer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26EF-ADF5-4642-A0C6-99C4AEE879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has the standard logical operators: and (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inclusive-or (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and not (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of a logical-and expression terminates with a value o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the first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b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of a logical-or expression terminates with a value o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the first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b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4EFC-6822-4B9F-A3C1-E4053BF3AC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expressions evaluate left to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it operator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have as logical operators if their operands ar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instead of inte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2924-7A13-4F1E-B1ED-B5BE515D8C7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operator tests whether an object instantiates a class. The code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e d = new Dat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 d instanceof Object ) //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 if ( d instanceof Date ) //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str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6C67-302C-4BEE-9BDF-7151E7ABA8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of primitive and class types are suppor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are fixed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constructed with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 ] nums = new int[ 100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their elements initialized to the appropriate default value (e.g., 0 for numbers and false for Boolean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A34E-5BC3-4C65-A7CD-F6ABFB0ACC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can be initialized in their declarations. The code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 ] nums = { 1, 2, 3 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str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dimensional” arrays are suppor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 ][ ] nums = new int[ 2 ][ 4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42F8-CBC1-471C-B8C7-CF8BCEAD1E1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arrays have a convenient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m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 ] nums1 = new int[ 10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n1 = nums1.length; //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 ][ ] nums2 = new int[ 2 ][ 4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n2 = nums2.length; //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n3 = nums2[ 0 ].length //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69C6-5737-4311-B288-EC5781A904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“multidimensional” array is really an array of arrays. For instanc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 ][ ] nums = new int[ 2 ][ 4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 array of  two elements, each of which is an array of four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B8CE-696C-4137-8271-D09966A67B2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alid identifier must begin with a letter, an underscore (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or a dollar sign (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maining characters must be letters, numerals, underscores, or dollar sig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compiler-generated identifiers typically include the dollar sign, the programmer typically does not use this symb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5AB-7306-4997-B0AB-16FAA2C186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ava compiler does not perform bounds checking on array acces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 ] nums = new int[ 10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s[ -1 ] = 999; // comp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ava runtime throws an exception if an array index is out of bou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57A8-7A4B-42D7-BBBC-47B8CA0D255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lock is sequence of instructions enclosed in curly br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declared inside a block have block scope; that is, such variables are visible only within their containing b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conflicts among local variables are not allowed; hence, local variables with the same name must occur in different bloc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BCF5-7426-4A22-80E3-1B0E7A4F34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vides three loop constructs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o wh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o wh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suited for conditional loops, and the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op is suited for counted lo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loop construct can be rewritten in principle with one of the other loop constru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165F-3E3D-4BF1-8F44-A85E3A4197D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 int n = 1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 i &lt; n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 i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s 0,1,…,99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96C8-773A-4878-B675-5BB201BA8E3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o wh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 int n = 1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 i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while ( i &lt; n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s 0,1,…,9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9F9F-61F4-40DA-9CF3-72C520207F3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 int n = 1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 int i = 0; i &lt; n; i++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 i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s 0,1,…,9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op, the three clauses are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loop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st-body expres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9C84-1396-45A2-83DC-EC5642535BC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ception is an  unexpected condition that arises during a program’s exec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instance, a program might inadvertently divide an integer by zero, which would cause or “throw” an exce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ion handling is a mechanism for handling excep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BCFE-4F82-42D8-84A2-D4ECB228783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untime environment implicitly throws an exception whenever a program violates some condition such as trying to open a nonexistent file or dividing an integer by z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can explicitly throw an exception with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hr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4CCF-7B0D-4E20-8086-8B82A72B07E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that might throw exceptions is placed in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lo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leInputStream i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 FileInputStream( “in.dat”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*** remaining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tch( IOException e ) { /*...*/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74FC-CE1B-4988-A88B-99C8297B1BC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lock is followed by one or mor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locks, which represent the exception handlers, or by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lock, whose code executes regardless of whether an exception is thrown in the corresponding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0C22-B29B-4BD2-AD5D-252ED71208C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ariable is a named storage cell that can hold a value of a particular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ariable must be declared before used. A declaration provides the name, which must be a valid identifier, and the data type together with any attributes such 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A sampl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n; // n is the name, int the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14B5-5C7E-46BC-9A69-D59FD04292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ions provide a concise, disciplined mechanism for handling unexpected conditions during a program’s exec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ors and methods in the standard classes rely heavily upon exception hand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C405-DB11-49EF-9A1E-EF7239C2FD9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occur as class fields and as local variables in constructors and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 have default values. For example, integer fields default to 0, floating-point fields to 0.0, and Boolean fields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references default to the special valu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7243-1B5B-4321-AA45-05867849A9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variables, unlike fields, do not have default valu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cal variable’s value must be set before using the variable, for example, in a function call or as the source of an assignment 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ariable can be declare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mark the variable a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D9B8-8733-497D-A23F-7567C20A5B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ors and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Java functions are encapsulated as either constructors or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structor ha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ame 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its encapsulating class and no return type or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place of a return type. For instance,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tructor would have the nam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9D5E-6C58-4B0D-AE49-C563A8A6E3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ors and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ors are used with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perator to construct instances of a class. Th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e today = new Dat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str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ors are typical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verload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 a class typically has several constru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561-2326-426E-A983-B6AA41A4DA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ors and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hod does not have the same name as its encapsulating class and has either a return type or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place of a return ty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 define the operations appropriate to a class and its in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C95B-5DED-4E43-B5A2-B7EAABC093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3T22:53:08Z</dcterms:created>
  <dc:creator>IPD</dc:creator>
  <dc:description/>
  <dc:language>en-US</dc:language>
  <cp:lastModifiedBy>IPD</cp:lastModifiedBy>
  <dcterms:modified xsi:type="dcterms:W3CDTF">2000-12-07T04:43:08Z</dcterms:modified>
  <cp:revision>50</cp:revision>
  <dc:subject/>
  <dc:title>Chapter 4</dc:title>
</cp:coreProperties>
</file>