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E81-BA13-482C-9912-EDA1B392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BA7-B121-4D8B-BA79-808D1102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188-CEAA-490D-8CE2-4B18C37D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9DB-6AEC-4A0E-BC19-03940D20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216-8932-4FF4-824D-C7B0FAD5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AEA-C441-4F9D-96DB-0F231DC0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E9B-729D-445D-B0EF-3DDC30E3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6E1-8F59-4B11-B000-45282358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9D5-9F90-4DB7-984D-28849C15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A73-1EF3-4482-8151-D7BEF24A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311-C989-487A-A960-040BED67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15F-8337-4420-BEF2-21857298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1CE9-8A11-4931-A738-E1DE382FC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AEB-A6C6-41A3-AABF-B9F7E2C306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.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includes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ocketIm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for applications that need to deal with firewalls, proxy servers, and the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rverSock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es have a default socket implementation that meets most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237-C1E9-4E3B-B850-FA83A62505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gram s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agramSock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es support IP-based netwo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ticastSock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supports group-based socket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cast sockets use data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95F-425A-4085-89FF-B329312C22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gram s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typical datagram applica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nder constructs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tore the cargo bytes to be sent to a receiver. The packet is addressed to a server and sent through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tagramSo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eiver constructs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ceive, through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tagramSo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ent packet of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197-A6B5-45B4-AB77-8EAD7A4D38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tion over s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tion over sockets is  attractive because of its simplicity and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can serialized to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ucted from the socket’s output stream, and then deserialized from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sociated with a socket’s input str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2E8-EA16-4094-9CA0-135FF8032F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Secure Sockets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SSE package supports secure Internet communications based on the Secure Sockets Layer and Transport Layer Security protocols in the TCP/IP su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legal reasons, the JSSE must be provided as a separate package available for free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ttp://java.sun.com/produ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BFF-CC54-483A-9CFE-2BBAB01C25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et is a typically small program embedded in another application, generally a Web browser that provides a JV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et’s host program provide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et contex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ich the applet exec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et is generally launched from an HTML document with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g that specifies the URL for the applet byte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65B-6E5F-49A3-9239-50905DE7A9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technical leve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pplet is an object whose class descends ultimately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pplet is an embeddab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n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a simp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pplet’s class must be pub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pplet typically overrides the inherit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E3C-BEA8-46F2-86A3-97CEA87704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Web browser downloads an applet, it typ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s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o enable once-only initialization (e.g., setting colors, fonts, and the li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s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 If the applet is multithreaded, other threads can be constructed and started in thi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F7B-FE2D-4A86-BE77-1E5E759609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applet real-estate in which to display itself, that is, the applet’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n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mbedded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ge that launched the applet is exited, the browser typically invokes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, which then can perform appropriate cleanup operations. If the launching page is entered again, the browser again invok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D6E-DFA1-4362-BDF0-26B29CDCC6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ts in the same context can communicate straightforwardly with one another by, for example, invoking one another’s accessibl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ts can be packaged in compressed JAR (Java Archive Files) for efficient downlo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236-26E9-4119-AEB8-CD1F2368D1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rich class libraries to support network programming at various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 classes that support server and client sockets, datagram sockets, and multicast so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 classes that support remote method invocation (RM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09D-D47D-4DC5-99BB-69EB5AD803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ts typically execute under a strict security manager that prevents an applet 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the local disk to read, write, delete, or execute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ing nonstandard libr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ing connections to arbitrary h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16C-F70F-4D96-A930-18A45CD9CF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ght applet security is sometimes described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ndbox secu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uggest that an applet must “play” within a confined area from which it must not ven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et is allowed to open a socket to the server from which is downloaded, thus enabling socket-based commun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D60-D2F7-41E8-8B70-3EF27D7A1D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 and host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Java application can download an applet’s bytecodes, load the applet, and invoke the usual applet method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ummary, any Java application can act as an applet’s host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respect, an applet shows itself to be the bean or component that it truly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EBE-EBFC-4129-BC6B-61EC24EB18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method invocation allows a Java program executing on one machine to invoke methods that execute on another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implementation level, an RMI client gets a reference to a remote object whose methods, exposed in an RMI interface, then can be invoked by the cl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9BF-F8AC-45F2-8A89-F65BE717B1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I uses serialization over sockets to handle (1) argument passing from a client invocation to a server execution and (2) a return value from a server to the invoking cl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I technology thus leverages underlying socke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6B6-C7B4-4F17-A010-BE610CB9A6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ypical RMI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its security manager to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MISecurity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s a reference of an interface type (e.g.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ace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the server imp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s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with the registered name of the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s the methods declared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ace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0B1-0E54-44C6-AB40-A2298BCE07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de segment from a sample cli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RMISecurityManager(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hello hi = (Ihello) Naming.lookup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mi://kalinnt.cti.edu/hello”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i.sayHi(); hi.sayBy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catch( Exception e ) 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FB1-40B7-45F8-B1A6-FDF783418D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ypical RMI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a public interface that extend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.rmi.Rem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ach declared method throws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te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blic class implements the interface by appropriately defining the methods therein. The server generally extends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andle argument and return value marsh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B55-A6C9-47AD-A2DF-00DD78BC0A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invokes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a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b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gister a server object under a symbolic name such as “HelloServer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tility is run on the compiled server code to generat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kele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handle low-level RMI interactions. The skeleton is the server’s proxy and the stub is downloaded automatically to the client to act as the client’s prox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693-F61B-4AF0-807F-D60B46186B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de segment from a sample ser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Ihello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ring sayHi() th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mote 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ring sayBye() th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5A8-F413-46E9-B416-FF18E63725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network programming is in package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.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va.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lso related standard packages for security, cryptography, and server-side scrip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third-party packages support technologies such as COR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4E1-7C12-4056-9290-0F5547FC38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de segment from a sample ser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HelloServer ext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castRemoteObject implements IHell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HelloServer thro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moteException 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ring sayHi() th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moteException 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ntinued on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620-388E-4765-82DF-A9E0FEAA15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[ ] a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ing.rebind( “hello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HelloServer(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catch( RemoteException e ) 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( MalformedURLException e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/*...*/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// end of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020-FB17-4FB3-9534-2DECA40133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 server has bee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d and started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miregis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tility is started on the server mach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gistry must be active so that clients can invok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locate a specific RMI server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rver application is then started to await cl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8AC-B263-4C50-9614-8CD018E462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RMI server runs continuously waiting for clients. An alternative is RMI activation, which starts a server only when a client connects to invoke a method remote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7C1-AB42-4719-A59D-B23A827664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 and J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I activation provides the infrastructure for Jini technology, which allows small digital devices (e.g., cellular phones) and software modules to be mutually accessible through a net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 technology extends the registry and naming services available in R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DD4-C1CF-49C9-9E31-C2937CAEC1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MI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I technology leverages socke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 and Enterprise Java Bean technologies leverage RMI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I is highly flexible. For instance, an applet can be an RMI client, and a servlet can be an RMI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BD5-30E2-491A-9D38-BF637DD85B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I requires, in effect, that the client and the server be written in the same language, J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I requires that the client know the server’s U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(Common Object Request Broker Architecture), by contrast, suppor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5FC-E31A-4F9C-9B7B-9CF7F51EB8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clients and servers can be written in different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clients can access servers through symbolic names given to the CORBA naming ser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clients need not know the server’s U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2F0-ACFC-4E65-8A32-63C649EC90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serves as an ORB, or object request brok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RBA client requests access to an object that some CORBA server prov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syntax level, CORBA is quite similar to RMI: a client typically uses a reference of an interface type to invoke methods remo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2FA-2EB9-477C-BAEB-2BCA77556E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nstandar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g.o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and its subpackages support CORBA under J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is an alternative to RMI in contexts in which Java is not the exclusiv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Java is used on both the client and the server side, RMI has efficiency and “ease of use” advantages over COR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65D4-C505-4581-A8F1-5536FF994D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networking reflects TCP/IP 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 fac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for networking infrastructure, but the Java interfaces and classes abstract from low-level TCP/IP implementation detai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such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et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close the underlying IP infra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25E-F1D6-4A28-94EA-A233D785D4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network applications ultimately must be tested in a distributed environment with physically machines, initial testing can be done a standalone machine using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lh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P address, which is 127.0.0.1 in dotted-decimal no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CFD-BCC2-4BA4-AC89-85EE053364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upports sockets of various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upports TCP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ckets, that is, a socket used by a client to send requests to a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rverSock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supports TCP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ckets, that is, sockets used by a server to await client requ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FC1-1FB1-4A22-91B5-2825273421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typical client/server application based on socke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ient opens a cli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server by specifying the server’s Internet address and the port number on which the server list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’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verSo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ens for clients. When a client connects,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ccep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a reference to the client soc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F09-2CBB-4CEA-A054-7F4E0BA972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ssociated input and output streams through which the client and the server can exchange data, including serialize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transaction completes,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losed, which breaks the conn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3AA-191A-4270-91E2-B7BFE28F69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threaded server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tera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s. Multithreaded server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r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typical concurrent server, the thread T that listens for clients constructs and starts separate threads to handle each client so that T can focus exclusively on listening for cl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92B-4FEE-48CE-BCC1-AD2F84FA95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18:30:06Z</dcterms:created>
  <dc:creator>IPD</dc:creator>
  <dc:description/>
  <dc:language>en-US</dc:language>
  <cp:lastModifiedBy>IPD</cp:lastModifiedBy>
  <dcterms:modified xsi:type="dcterms:W3CDTF">2000-12-07T04:46:42Z</dcterms:modified>
  <cp:revision>38</cp:revision>
  <dc:subject/>
  <dc:title>Chapter 9</dc:title>
</cp:coreProperties>
</file>