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A1A1C-EAEA-4266-9B1C-64CA4B3CC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6C642-185F-48C8-9CED-DB79C2DF9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17532-8529-4FBD-AA7F-1CE2B2106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5B33C-947C-40CA-BE4B-1657F16F0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308B9-A189-447E-948E-BF13C4B1D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5BC65-D15C-41F5-814E-2A4F5C43B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728E1-7F4A-4D92-B65D-358D16384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63B2A-1FB1-4CEE-89ED-036783676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6AF40-6D79-4115-8F5F-A74D5F581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4865D-1960-4A38-9251-BBAEEC5A4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23D43-CB84-4A18-9835-EFB35D24E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A3E40-0908-4772-93AF-B20DA3636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FF7CA-9044-4BEF-BA6E-9C1964D224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pter 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grams and Packa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A2519-FF11-46C7-9A95-F61CDC99006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an typ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ea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software component, that is, a prebuilt software part that can be integrated with others to build an applic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bea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ypically has a distinct, special purpose. Examples are calendar beans, login beans, email beans, and so fort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ea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s class or an ancestor implements the standard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Serializab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nterfa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6482C-2AD1-4063-A540-CA9AB1A2E5D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 of program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given piece of Java code could, in principle, belong to each program typ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ry applet is automatically a bean, for instan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key point is that the very same programming constructs are available throughout the program typ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53890-4995-4A76-B819-6EBDD386E31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cka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s with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.clas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xtension are aggregated into packages, or collections of related class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ckages may contain subpackages to arbitrary level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primary package is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jav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its main subpackage is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la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21D89-A25B-4730-AE04-9B376790A8B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cka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classes in the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java.la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ackage are automatically imported into every progra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grammers typically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impor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lasses from packages to avoid using fully qualified names. If a program imports the class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java.util.Dat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the programmer then can use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Dat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nstead of the fully qualified na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342C1-CEE8-49C4-B987-61E82F2E082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cka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jav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the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java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ackages are standard package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java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ackages are 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sions to the earlier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java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ckag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tandard packages support string and text processing, numeric computation, networking, graphics, security, and so 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486D8-39D6-4AB0-8B86-E19ECD5CC24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cka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ckages can be used to resolve name conflic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java.aw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ackage has a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Li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lass and the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java.uti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ackage has a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Lis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face. The fully qualified nam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java.awt.Li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java.util.Li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ambigua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65373-2BB0-459D-98F8-F6C2592ADCB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cka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very class belongs to a packa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package to which a class belongs can be explicitly declared with the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packag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tatement in a source fi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class belongs to a default unnamed package if a containing package is not explicitly declar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E1808-9E92-41E1-9F80-777B894D094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urier New"/>
              </a:rPr>
              <a:t>packag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state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package statement, if present, occurs as the first uncommented line in a source fi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ource fil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i.java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uld be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ackage hiPkg;  // Note: 1st 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mport java.util.Dat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lass Hi {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850D5-B4E3-424F-8D7F-26854F29807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urier New"/>
              </a:rPr>
              <a:t>CLASSPATH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Vari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tilities such as the compiler and the run-time interpreter can fi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tandar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ackages and the classes contained therei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CLASSPAT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nvironment variable can be set so that these utilities can find programmer-defined classes in their containing packages, whether explicitly named or defaul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F5A86-0E5C-485C-A9D8-1096F29CF71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bdirectories as subpacka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hierarchical file system with directories and subdirectories can be used to implement packages and subpackag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ppose that directory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AI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ontains a subdirectory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U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A source file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AI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ould trea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U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s a subpackage and import all of the classes therein with the command    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import SUB.*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9E17D-79DA-4B1A-929E-A7B4B9D69FC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ava Virtual Machine (JVM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va programs execute on the JV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JVM is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irtua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rather than a physical machine, although the JVM has been implemented in silic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JVM is typically implemented as a run-time interpreter that translates Jav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ytecod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structions into native instruction codes, which the host platform execu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AA23B-9099-4B67-A009-AA6AE01C6AF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 of packa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ckages are a convenient way to group related classes into software libraries. Standard packages such as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java.mat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do precisely thi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small programs and projects, default packages are typically sufficient. Explicitly named packages are especially useful for large projects with many programm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C0F84-F860-458C-95C6-9564E48C4BC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ava Virtual Machine (JVM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java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tility in the JDK provides the JVM as a run-time interpret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JVM provides a run-time environment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untim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or short) that enables programs to execute on a host platfor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Java runtime can work with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ecurity manag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determine which operations a program can perform on the host platfor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D2E07-5626-465E-87C5-576794C9753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gram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va has four program types, although the differences among them are shallow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four types a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rvl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55BD6-81BA-4878-BFE8-C470DB2F7A3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ication typ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standalone program in the sense of requiring only the JVM to execu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does not require a host program such as a brows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has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mai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s its entry poi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57F4D-56B1-4AB9-A1B7-1ED188495DD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et typ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pple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n the original sense is a small program typically downloaded from a server to a client machin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Web browser equipped with a JVM typically acts as the host program for a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pple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pple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typically launched through an HTML or equivalent docum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0F104-1DE3-4D41-9661-BAB6125F9F9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et typ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pple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ypically operates under a strict security manager, which impose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andbox securit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Such security prevents an applet from performing potentially dangerous operations such as reading from or writing to the local dis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pple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s class descends from the standard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pple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las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D4E4C-C443-4700-BFE4-0CC4C37C1C3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rvlet typ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ervle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program that executes on a server machine, typically to process a request submitted from a client machin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ervle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s host program is typically a Web server, which provides a JV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ervle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like an applet, is typically launched from a Web browser but, unlike an applet, executes on the serv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B5545-D0E6-4966-8E70-A59A32750AD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rvlet typ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ervle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ommonly performs database operations and generates dynamic Web content to displayed on a client’s brows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ervle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s class either implements the standard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Servle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nterface or descends from a class that implements this interfa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04B98-2659-4F75-8885-53BB47E8BC2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03T21:53:17Z</dcterms:created>
  <dc:creator>IPD</dc:creator>
  <dc:description/>
  <dc:language>en-US</dc:language>
  <cp:lastModifiedBy>IPD</cp:lastModifiedBy>
  <dcterms:modified xsi:type="dcterms:W3CDTF">2000-12-07T04:42:07Z</dcterms:modified>
  <cp:revision>19</cp:revision>
  <dc:subject/>
  <dc:title>Chapter 3</dc:title>
</cp:coreProperties>
</file>