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BEF-5947-4B1E-8DD0-2A4CAA1F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202-96AC-4AA4-A357-32616F66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1D3-0083-476C-89C8-1F23EA02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731-9B9C-4674-8DBA-D0F475BF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A96-BE19-491F-BE5A-C9B33650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171-5189-44EC-B522-DB7BC570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CBA-1850-463A-84BA-C7F54D42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1CE-71CD-44CB-9163-CE87365E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82F-5B97-462C-A081-A1750722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579-7318-4BA9-96A2-877BA489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2BD-FEBF-43FE-B2D8-6D99E512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849-5011-4AC7-ACC3-70E2BE6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8FAF-8251-4255-B8F4-FC08337FA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, Interfaces, and Abstract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323-C990-4C23-8727-062E0F8AD7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unde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 extends Obje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(){ n = -999;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horthand 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 extends Obje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(){ super(); n = -999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4A6-3B7C-4045-9D1C-0CCDFCDFA0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unde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rogrammer does not explicitly invoke a superclass constructor in a subclass constructor, the compiler in effect insert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 first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s the superclass no-argument constructor.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(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s a superclass parameterized constru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799-B895-4761-B81A-F99F7D4876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unde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a subclass derives from a superclass, it is appropriate that every subclass constructor invoke a superclass constructor to handle construction of the inherited or “superclass part” of a subclass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1CA-D7F1-486C-ADBA-3762D13E77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h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class, every field must have a distinc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inheritance hierarchy, a subclass field may hav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me (e.g.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s a superclass field. In this case, the subclass field hides the superclass field of the same name. The ter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used to access the superclass field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.n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552-E1AD-401B-903F-BD986495CB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h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class method may have the same signature as a superclass method. In this case, the subclass meth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ri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uperclass method of the same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ommon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endants to overrid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nherited ultimately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is deliberate name hi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17D-CACD-4D0E-98C1-6EC180418E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bling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can be declared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 subcla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is declared as final; hence, no standard or programmer-defined class can exte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852-FF92-4A52-A63C-8BEB9C3A5A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erence of a superclass type can refer to an object of a subclass ty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obj = new Da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erence of a subclass type can refer with casting to an object of a superclass type, but this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y danger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 d = (Date) new Objec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B9F-7A64-40A2-902C-9E3524F5FD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erence of one peer type cannot refer, even with explicit casting, to an object of another type peer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er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lasses between which there is no ancestor/descendant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 d = (Date) new String(); //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487-44AF-4E82-824D-7FF5C21DA4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ting a reference to subclass type (e.g.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the reference can refer to an object of a superclass type (e.g.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known 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wn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 casts are not type safe; that is, such casts can lead to subtle run-tim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FAF-A90F-4ED6-9E23-C09BE01804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morphism has two requir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class method must override a superclass  method. Only superclass methods with public and protected scope are eligible for overri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perclass reference, which may refer to either a superclass or a subclass object, is used to invoke th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DAB-1301-4DC4-ACB2-DAE41EDC15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lass excep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ds (that is, is a subclass of) exactly one oth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upports on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heritance for classes; that is, a class can have on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uppor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heritance for interfaces; that is, an interface can have more than one super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AE3-6E9D-4164-B633-9ED0E7527E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ob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new Random().nextInt() &gt;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= new Da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= new Vect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obj.toString(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a polymorphic inv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2C9-DB3D-455F-B286-94E21BC70B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such as windows, buttons, and labels inherit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tVi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that can be overridden to display the component in a class-appropriate fashion. I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s to an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.setVisible( true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ymorphically invokes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tVi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268-4720-40FD-89C3-CF9E760141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rotected and public methods can be overr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n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can be overrid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declared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overr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8AA-16B9-4A70-BBCD-59077822B7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is defined with the keywo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yInterfa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m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ring m2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cannot be instantiated as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917-2875-46FF-B1FF-9708043D35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can co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her tha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and final fields, which represent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final double pi =  3.14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terface memb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declared pub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ty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rk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allow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A88-682E-4D80-A3B2-8DE98D921C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 implements Runnable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can implement multiple interfaces. The interface identifiers are separated by com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interface c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te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bclass) one or mor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6AD-EE7F-4A3E-AB08-279F259680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and concret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lass implements an interface, the class mu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of the methods declared in the interface in order to be concr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a class that can be instantiated as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a class that cannot be instantiated as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307-7D10-4CA4-B102-87ADEC2753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, like a class, has either package or public scope. Package scope is the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may be declar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tract interface MyIface {/*...*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hasize that the interface cannot be instantiated as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BD0-52E7-4235-9995-4C33BF6739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terfaces are abstract even if not declared so. 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 that an interface cannot be instantiated as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methods may be declar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hasize that interface methods are on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cla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4B6-C672-45C7-9213-79D661F68A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and concret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unn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 declares on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ru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that implement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unn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defin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order to be concr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2F9-C831-4933-8BC2-1C77D53B5B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lass is declared without an explicit superclass, Object is the super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us shorthan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 extends Object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FFB-9BCB-40D0-919E-37AFD5572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type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references can be of interface types. 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 s1 = new HashSe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interface rather than a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, it can be used to invoke only methods declared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FF3-B4A4-4EB2-8243-ADA26DA31B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type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to the interface” is a key principle in object-oriented programming. Wherever possible, object references should b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DK documentation, interfaces are listed before classes. This underscores that classes should be viewed, wherever possible, as interface implem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4E8-1E6C-4FDA-AACF-D396EACB94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can be nested inside a class. In this case, the interfac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ardless of whether it is declared 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260-5498-4036-A982-A0C65BEC90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annot be instantiated as an ob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tract class ABS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 a1 = new ABS(); //***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can contain an arbitrary mix of method declarations and method defin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55A-4137-4902-BF9B-6E24D24D3C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ways for a class to be abstr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 is explicitly declared abs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capsulated method is explicitly declared abs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 fails to define all of the methods in the interfaces that the class imp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5B5-1B1F-4755-903B-3871396F28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are bona fide classes. For instance, such classes descend fro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exactly one superclass, 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tend to have highly specialized uses. Beginning programmers typically use either concrete classes or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F34-9BA1-4A0A-9922-9A9BAB0DEC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yntax for inheritanc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Mang extends Emp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I3 extends I1, I2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class inherits all superclass members except for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interface inherits all superinterface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785-BCA6-4A58-AED2-03985CC5F5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t the root of the class inheritance hierarchy in Java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super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other class, standard or programmer defined, h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n ances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mbers such as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are inherited by al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cend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47E-9799-4C13-8B09-76F947099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rules apply in inheritance. For instance,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hild extends Parent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r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 either public scope or be in the same package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h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769-1DEF-429E-8561-DEE19217FB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ed members normally retain their scope. For instance, a superclass member with private scope is inherited with private scope by the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herited member’s scope can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re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not decreased. For example, an inherited protected member can be redeclared as public but not vice-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39B-8AD1-4D63-AE4C-E4DF98A925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protected scope.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classes are allowed to redecla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public in accordance with the rule that an inherited member’s scope can be increased but not de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D47-71A9-4380-A6CD-923484262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unde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constructor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herited, they play a key role in inheri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class constructor must invoke a superclass constructor, either implicitly or explici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vocation must occur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in the subclass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750-ED8A-46DD-8781-34FED77142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3:55:56Z</dcterms:created>
  <dc:creator>Marty Kalin</dc:creator>
  <dc:description/>
  <dc:language>en-US</dc:language>
  <cp:lastModifiedBy>Marty Kalin</cp:lastModifiedBy>
  <dcterms:modified xsi:type="dcterms:W3CDTF">2000-12-05T02:25:42Z</dcterms:modified>
  <cp:revision>38</cp:revision>
  <dc:subject/>
  <dc:title>Chapter 6</dc:title>
</cp:coreProperties>
</file>