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5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BACB181-07BD-4347-886D-94DE6AC6F0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ED5B-418E-4FC5-A3D3-66553479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9B29-6D06-49E5-8B28-71C388E5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7B0A-63AD-46CE-ACC3-BBE06875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0AB9-6841-4222-A4A6-160DEFA5D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7836-99A7-469A-A4FA-450445B16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F632-D662-4B53-9B66-89440C19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011B-EF75-4813-B2A5-D6B04043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9375-FDB2-439D-AB83-9F4142B9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7653-64C4-4550-9C7B-7EE0B8DA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A789-E478-4A21-97D8-959CA5E7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5213-B9E2-4E8E-B24A-469FFB51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AA59-09A3-476D-A4DC-4EB3697B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51CA-6A12-4FC9-AC81-74F2465A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BE96-334C-439E-BFF2-375BDA62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15EA-3794-4D79-8882-4C00EA8F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43AC-F132-41DA-BABB-D1562956F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328D-AC6A-4E98-B10E-FB63F012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C442-9F94-472D-B08D-305C6358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681B-38E6-401B-823E-1BCCF596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2DDB-B5F0-4031-8C89-494DCA36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7ED1-27DB-499D-93BE-72B4150B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0AA5-4C95-401E-93D9-CF1B17B9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B623-7D21-4365-8252-8DABF554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06F7-E4F4-42EC-9187-CCA15324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Lecture 16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891D-3C6D-40B6-B140-2E6D3377A63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057D-1E16-4394-BB71-10E2255D8057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6A32-BDDB-466F-8B67-78075D7ECDB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660680"/>
            <a:ext cx="777240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6633"/>
                </a:solidFill>
                <a:latin typeface="Garamond"/>
              </a:rPr>
              <a:t>IT 223 Data Analysis</a:t>
            </a:r>
            <a:endParaRPr b="0" lang="en-US" sz="6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2120" y="42667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16: Tests of Significan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ame content as Lecture 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04920"/>
            <a:ext cx="5562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aul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 of C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772400" y="457200"/>
            <a:ext cx="484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2560" y="1274760"/>
            <a:ext cx="79329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-valu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obability of observing a test statistic as 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extreme or more extrem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an the actually observed value, given tha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tru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reme” means “far from what we would expect from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-valu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rovides information about the amount of statistical evidence that supports the null hypothe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maller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-val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the less the evidence fo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947880" y="363240"/>
            <a:ext cx="72482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P-valu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2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E5B6-3509-4E63-895D-92C80CDC4B6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49988-0095-41CC-BCB6-FD633236610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06600" y="1382400"/>
            <a:ext cx="7758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se the probability that the sample mean is equal or larger than 178 (when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170) is 0.0069.  So we eith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served a highly unlikely ev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or, what is more likely is that </a:t>
            </a:r>
            <a:r>
              <a:rPr b="0" lang="en-US" sz="2200" spc="-1" strike="noStrike">
                <a:solidFill>
                  <a:srgbClr val="ff3300"/>
                </a:solidFill>
                <a:latin typeface="Symbol"/>
                <a:ea typeface="Symbol"/>
              </a:rPr>
              <a:t>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&gt; 17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561960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12760" y="3600360"/>
            <a:ext cx="6551640" cy="1373760"/>
          </a:xfrm>
          <a:prstGeom prst="rect">
            <a:avLst/>
          </a:prstGeom>
          <a:solidFill>
            <a:srgbClr val="ffc5ff"/>
          </a:solidFill>
          <a:ln w="9360">
            <a:solidFill>
              <a:srgbClr val="3b812f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812f"/>
                </a:solidFill>
                <a:latin typeface="Arial Narrow"/>
              </a:rPr>
              <a:t>We can conclude that the smaller the </a:t>
            </a:r>
            <a:r>
              <a:rPr b="0" i="1" lang="en-US" sz="2800" spc="-1" strike="noStrike">
                <a:solidFill>
                  <a:srgbClr val="3b812f"/>
                </a:solidFill>
                <a:latin typeface="Arial Narrow"/>
              </a:rPr>
              <a:t>P-value</a:t>
            </a:r>
            <a:r>
              <a:rPr b="0" lang="en-US" sz="2800" spc="-1" strike="noStrike">
                <a:solidFill>
                  <a:srgbClr val="3b812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812f"/>
                </a:solidFill>
                <a:latin typeface="Arial Narrow"/>
              </a:rPr>
              <a:t>the more statistical evidence exists to support the alternative hypothe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685440" y="458640"/>
            <a:ext cx="76201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erpreting </a:t>
            </a: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P-valu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2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88A8-1555-4A43-83BC-822AAEBD442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438143-2EFF-4EA7-8745-0745782A61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32880" y="1552320"/>
            <a:ext cx="767268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-valu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less than 1%, there is </a:t>
            </a:r>
            <a:r>
              <a:rPr b="1" i="1" lang="en-US" sz="2100" spc="-1" strike="noStrike">
                <a:solidFill>
                  <a:srgbClr val="ff3300"/>
                </a:solidFill>
                <a:latin typeface="Arial"/>
              </a:rPr>
              <a:t>overwhelming evidenc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hat supports the alternative hypothesi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7800" y="2405160"/>
            <a:ext cx="774864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-valu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between 1% and 5%, there is  </a:t>
            </a:r>
            <a:r>
              <a:rPr b="1" i="1" lang="en-US" sz="2200" spc="-1" strike="noStrike">
                <a:solidFill>
                  <a:srgbClr val="ff3300"/>
                </a:solidFill>
                <a:latin typeface="Arial"/>
              </a:rPr>
              <a:t>strong eviden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at supports the alternative hypothesi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-valu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between 5% and 10% there is  </a:t>
            </a:r>
            <a:r>
              <a:rPr b="1" i="1" lang="en-US" sz="2200" spc="-1" strike="noStrike">
                <a:solidFill>
                  <a:srgbClr val="ff3300"/>
                </a:solidFill>
                <a:latin typeface="Arial"/>
              </a:rPr>
              <a:t>weak eviden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at supports the alternative hypothesi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-valu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ceeds 10%, there is </a:t>
            </a:r>
            <a:r>
              <a:rPr b="1" i="1" lang="en-US" sz="2200" spc="-1" strike="noStrike">
                <a:solidFill>
                  <a:srgbClr val="ff3300"/>
                </a:solidFill>
                <a:latin typeface="Arial"/>
              </a:rPr>
              <a:t>no eviden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at supports of the alternative hypothesi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685440" y="458640"/>
            <a:ext cx="76201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scribing </a:t>
            </a: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P-valu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2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8E27-98ED-465E-9935-E5C39A246E3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D4EAD-B529-46D4-9208-ED05743806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367920"/>
            <a:ext cx="678024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ignificance Level </a:t>
            </a:r>
            <a:r>
              <a:rPr b="0" i="1" lang="en-US" sz="4200" spc="-1" strike="noStrike">
                <a:solidFill>
                  <a:srgbClr val="006633"/>
                </a:solidFill>
                <a:latin typeface="Symbol"/>
                <a:ea typeface="Symbol"/>
              </a:rPr>
              <a:t>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49360" y="1217160"/>
            <a:ext cx="800712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need to make a conclusion after carrying out the hypothesis test.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hat do we conclud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can compare the </a:t>
            </a: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P-valu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ith a fixed value that we regard as decisiv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amounts to announcing in advance how much evidence against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e require in order to rejec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cisive value is called the </a:t>
            </a: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significance leve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f the test. It is denoted by </a:t>
            </a:r>
            <a:r>
              <a:rPr b="1" i="1" lang="en-US" sz="22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 the corresponding test is called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level </a:t>
            </a:r>
            <a:r>
              <a:rPr b="1" i="1" lang="en-US" sz="22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tes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0640" y="4789440"/>
            <a:ext cx="7705800" cy="98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Statistical Significance: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If the </a:t>
            </a:r>
            <a:r>
              <a:rPr b="1" i="1" lang="en-US" sz="2400" spc="-1" strike="noStrike">
                <a:solidFill>
                  <a:srgbClr val="ff00ff"/>
                </a:solidFill>
                <a:latin typeface="Arial"/>
              </a:rPr>
              <a:t>P-value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ff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we say that the data are statistically significant at level</a:t>
            </a:r>
            <a:r>
              <a:rPr b="1" i="1" lang="en-US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ff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2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3033-FB83-4C5E-A56C-DECAC779B69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3650F4-8606-497D-B2FE-AFA7D671EA8E}" type="datetime1">
              <a:rPr lang="en-US"/>
              <a:t>07/31/26</a:t>
            </a:fld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55480" y="347400"/>
            <a:ext cx="804888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Symbol"/>
                <a:ea typeface="Symbol"/>
              </a:rPr>
              <a:t>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d </a:t>
            </a: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P-valu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93360" y="1190160"/>
            <a:ext cx="77677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-valu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significance level </a:t>
            </a:r>
            <a:r>
              <a:rPr b="0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jec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 P-valu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≤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not rejec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P-valu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&gt;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is it easier to rejec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arge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or small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is the evidence agains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tronger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arge P-value or small P-valu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2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F9E5-F186-4482-91F9-2A8657A0462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E3C9D3-FE15-48A8-8B40-E898BF932FF4}" type="datetime1">
              <a:rPr lang="en-US"/>
              <a:t>07/31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4760" y="380880"/>
            <a:ext cx="712008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our steps of hypotheses test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5320" y="1271160"/>
            <a:ext cx="795024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the hypotheses to test, and the required significance level </a:t>
            </a:r>
            <a:r>
              <a:rPr b="1" i="1" lang="en-US" sz="30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lculate the value of the test statisti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 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-valu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ased on the observed da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 the conclusio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ject the null hypothesis if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-val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≤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-val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the data do not provide sufficient evidence to reject the nu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2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67CF-CD7D-4797-8F67-EA2A1BBB466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387CF-5FE0-4D22-832F-84FE4D7CCBA4}" type="datetime1">
              <a:rPr lang="en-US"/>
              <a:t>07/31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383760"/>
            <a:ext cx="67658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est mean with known </a:t>
            </a:r>
            <a:r>
              <a:rPr b="0" i="1" lang="en-US" sz="4200" spc="-1" strike="noStrike">
                <a:solidFill>
                  <a:srgbClr val="006633"/>
                </a:solidFill>
                <a:latin typeface="Symbol"/>
                <a:ea typeface="Symbol"/>
              </a:rPr>
              <a:t>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56920" y="1303200"/>
            <a:ext cx="8056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 a random sample from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(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Null hypothe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Alternative hypothesis (three possibilities):</a:t>
            </a: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ample mean      is normally distributed wit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098960" y="4419720"/>
                <a:ext cx="4935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971720" y="5362560"/>
                <a:ext cx="505152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  and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2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50AC-2DE9-439C-8E89-BE240A6F11E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9B0639-BCE9-4993-96BC-28C9FEDE0480}" type="datetime1">
              <a:rPr lang="en-US"/>
              <a:t>07/31/26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383760"/>
            <a:ext cx="68054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ormal with known </a:t>
            </a:r>
            <a:r>
              <a:rPr b="0" i="1" lang="en-US" sz="4200" spc="-1" strike="noStrike">
                <a:solidFill>
                  <a:srgbClr val="006633"/>
                </a:solidFill>
                <a:latin typeface="Symbol"/>
                <a:ea typeface="Symbol"/>
              </a:rPr>
              <a:t></a:t>
            </a: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:</a:t>
            </a:r>
            <a:r>
              <a:rPr b="0" lang="en-US" sz="4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4200" spc="-1" strike="noStrike">
                <a:solidFill>
                  <a:srgbClr val="ff3300"/>
                </a:solidFill>
                <a:latin typeface="Garamond"/>
              </a:rPr>
              <a:t>Z tes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5600" y="1081080"/>
            <a:ext cx="79405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true,                   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s a standard normal distribu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is a natural measure of the distance between the sample mean       and its expected value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a given sample, we obser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true, we expec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be close to 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758960" y="1749600"/>
                <a:ext cx="30448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719520" y="3911760"/>
                <a:ext cx="425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842080" y="4334040"/>
                <a:ext cx="231912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513240" y="960480"/>
                <a:ext cx="17110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2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3F32-5289-42C3-A2E9-14A69B40057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CFE81C-9C56-4BD6-B473-FB92DE6CC1CE}" type="datetime1">
              <a:rPr lang="en-US"/>
              <a:t>07/31/26</a:t>
            </a:fld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383760"/>
            <a:ext cx="68580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ormal with known </a:t>
            </a:r>
            <a:r>
              <a:rPr b="0" i="1" lang="en-US" sz="4200" spc="-1" strike="noStrike">
                <a:solidFill>
                  <a:srgbClr val="006633"/>
                </a:solidFill>
                <a:latin typeface="Symbol"/>
                <a:ea typeface="Symbol"/>
              </a:rPr>
              <a:t>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28480" y="1196640"/>
            <a:ext cx="79120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se 1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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hould be rejected if z is too far away from 0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P-value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i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P(Z &gt; |z|)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se 2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hould be rejected if z is much larger than  0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P-value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i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(Z &gt; 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se 3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hould be rejected if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much smaller than  0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P-value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i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(Z &lt; 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2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C965-4FC2-46E9-8E43-C3919CDBE47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297F1-012C-4212-8AB9-7A9F0B912AD5}" type="datetime1">
              <a:rPr lang="en-US"/>
              <a:t>07/31/26</a:t>
            </a:fld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4200" y="334440"/>
            <a:ext cx="717048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ormal with known </a:t>
            </a:r>
            <a:r>
              <a:rPr b="0" i="1" lang="en-US" sz="4200" spc="-1" strike="noStrike">
                <a:solidFill>
                  <a:srgbClr val="006633"/>
                </a:solidFill>
                <a:latin typeface="Symbol"/>
                <a:ea typeface="Symbol"/>
              </a:rPr>
              <a:t>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:</a:t>
            </a:r>
            <a:r>
              <a:rPr b="0" i="1" lang="en-US" sz="42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4200"/>
            </a:br>
            <a:r>
              <a:rPr b="0" i="1" lang="en-US" sz="4200" spc="-1" strike="noStrike">
                <a:solidFill>
                  <a:srgbClr val="ff3300"/>
                </a:solidFill>
                <a:latin typeface="Garamond"/>
              </a:rPr>
              <a:t>P-value </a:t>
            </a:r>
            <a:r>
              <a:rPr b="0" lang="en-US" sz="4200" spc="-1" strike="noStrike">
                <a:solidFill>
                  <a:srgbClr val="ff3300"/>
                </a:solidFill>
                <a:latin typeface="Garamond"/>
              </a:rPr>
              <a:t>metho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77360" y="1715760"/>
            <a:ext cx="8067960" cy="36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Null hypothesi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Test statisti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Alternative hypothesi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-val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P(Z &gt; |z|)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(Z &gt; z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(Z &lt; z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28840" y="2335320"/>
                <a:ext cx="12319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2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EE37-403F-4710-B1E3-B434D98B393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F26A7-20D4-4404-AA32-E386DF0CD06E}" type="datetime1">
              <a:rPr lang="en-US"/>
              <a:t>07/31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21800" y="1198440"/>
            <a:ext cx="7921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oint estim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ropriate when the goal is to estimate a population parame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onfidence interv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ropriate when the goal is to estimate a population parameter with confide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ypotheses test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Hypothesis: a statement about the paramet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ropriate when the goal is to assess if the evidence provided by the data is in favor of some claim about the pop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440" y="458640"/>
            <a:ext cx="76201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cedures for statistical inferen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2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011B-77B3-455D-A538-08FA1DB6C2C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FB7DEF-B060-4830-B939-6AABB3D64A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9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310680"/>
            <a:ext cx="720864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prinkl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87160" y="1036800"/>
            <a:ext cx="77929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prinkler systems maker claims that the true average system-activation temperature is 13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ample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9 systems, when tested, yields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ample average activation temperature of 131.0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 If the distribution of activation temperature is normal with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1.5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does the data contradict the claim at significance level </a:t>
            </a:r>
            <a:br>
              <a:rPr sz="2600"/>
            </a:b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0.01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true average activation temperatur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ypothese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st statistic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value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2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9C67-2CA8-43EE-92FC-DD5250F1E7B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4AAA41-E230-48D6-9F30-FD417B4C38D1}" type="datetime1">
              <a:rPr lang="en-US"/>
              <a:t>07/31/26</a:t>
            </a:fld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1520" y="1365120"/>
            <a:ext cx="799956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ejection region is a range of values such that if the test statistic falls into that range, the null hypothesis is reject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ejection region metho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the hypotheses to test, and the required significance level </a:t>
            </a:r>
            <a:r>
              <a:rPr b="1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d the corresponding rejection reg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e the test statistic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ject the null hypothesis only if the value of the test statistic falls in the rejection reg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85440" y="458640"/>
            <a:ext cx="76201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Garamond"/>
              </a:rPr>
              <a:t>Rejection Region Metho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2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2DAC-1089-449E-B1FF-C8C8ECBF86B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35F057-4115-4A84-B65D-9B8B9FED1A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0160" y="383760"/>
            <a:ext cx="746280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ormal with known </a:t>
            </a:r>
            <a:r>
              <a:rPr b="0" i="1" lang="en-US" sz="4200" spc="-1" strike="noStrike">
                <a:solidFill>
                  <a:srgbClr val="006633"/>
                </a:solidFill>
                <a:latin typeface="Symbol"/>
                <a:ea typeface="Symbol"/>
              </a:rPr>
              <a:t></a:t>
            </a: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:</a:t>
            </a:r>
            <a:r>
              <a:rPr b="0" i="1" lang="en-US" sz="42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4200"/>
            </a:br>
            <a:r>
              <a:rPr b="0" i="1" lang="en-US" sz="4200" spc="-1" strike="noStrike">
                <a:solidFill>
                  <a:srgbClr val="ff3300"/>
                </a:solidFill>
                <a:latin typeface="Garamond"/>
              </a:rPr>
              <a:t>Rejection Region</a:t>
            </a:r>
            <a:r>
              <a:rPr b="0" lang="en-US" sz="4200" spc="-1" strike="noStrike">
                <a:solidFill>
                  <a:srgbClr val="ff3300"/>
                </a:solidFill>
                <a:latin typeface="Garamond"/>
              </a:rPr>
              <a:t> Metho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17560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Null hypothe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est statist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 hypothesis        Rejection region for leve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z &lt; -z</a:t>
            </a:r>
            <a:r>
              <a:rPr b="0" lang="el-GR" sz="27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OR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z &gt; z</a:t>
            </a:r>
            <a:r>
              <a:rPr b="0" lang="el-GR" sz="27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6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z &gt; z</a:t>
            </a:r>
            <a:r>
              <a:rPr b="0" lang="el-GR" sz="27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z &lt; -z</a:t>
            </a:r>
            <a:r>
              <a:rPr b="0" lang="el-GR" sz="27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587760" y="2498760"/>
                <a:ext cx="14810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2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DBE8-C8B9-484A-B30A-B0C43FC790B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D81D9-D319-4883-8525-078C114EFCCC}" type="datetime1">
              <a:rPr lang="en-US"/>
              <a:t>07/31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310680"/>
            <a:ext cx="720864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prinkl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93720" y="1022040"/>
            <a:ext cx="782496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prinkler systems maker claims that the true average system-activation temperature is 13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A sample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9 systems , when tested, yields a sample average activation temperature of 131.0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If the distribution of activation temperature is normal with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.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oes the data contradict the claim at significance level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.01?  Le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true average activation temperature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Arial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ypotheses: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= 130  vs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1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0000"/>
              <a:buFont typeface="Arial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jection region:  z &lt; -z</a:t>
            </a:r>
            <a:r>
              <a:rPr b="0" lang="el-GR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 -2.575  or  z &gt;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l-GR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.57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0000"/>
              <a:buFont typeface="Arial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 statistic: (131.08 – 130)/0.5 = 2.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0000"/>
              <a:buFont typeface="Arial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:  Since 2.16 does not fall in the rejecti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ion, we do not reject the null hypothes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2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DAA3-1874-419E-8AB1-336B7133309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F8ACF2-E4EB-4955-84CC-5207577BBBE5}" type="datetime1">
              <a:rPr lang="en-US"/>
              <a:t>07/31/26</a:t>
            </a:fld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prinkler Revisit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55640" y="1322280"/>
            <a:ext cx="76233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prinkler systems maker claims that the true average system-activation temperature is 13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A sample of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9 systems , when tested, yields a sample average activation temperature of 131.08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If the distribution of activation temperature is normal with </a:t>
            </a:r>
            <a:r>
              <a:rPr b="0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1.5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 the data contradict the claim at significance level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.01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’s the 99% confidence interval for the activation temperatu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2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9478-6826-451D-87D7-04071EB245F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17AFBE-F8B9-4210-8B11-C374811A75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31400" y="417600"/>
            <a:ext cx="711036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I &amp; 2-Sided Tes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5320" y="1236600"/>
            <a:ext cx="75758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level </a:t>
            </a:r>
            <a:r>
              <a:rPr b="0" lang="en-US" sz="30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2-sided test reject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xactly when the valu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alls outside a level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1 - </a:t>
            </a:r>
            <a:r>
              <a:rPr b="0" i="1" lang="en-US" sz="30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nfidence interval fo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fidence interval can be used to test hypothe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lculate the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1 - </a:t>
            </a:r>
            <a:r>
              <a:rPr b="0" i="1" lang="en-US" sz="30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level confidence interval, th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alls within the interval, do not reject the null hypothesis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wise, reject the null hypothes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2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C714-AB7E-4269-AC3E-9CB9926C830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FB36D5-2826-4C5E-A395-CC9481F7909E}" type="datetime1">
              <a:rPr lang="en-US"/>
              <a:t>07/31/26</a:t>
            </a:fld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73200" y="1042920"/>
            <a:ext cx="7565760" cy="49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a discussion of SAT scores, someone comments: “Because only a minority of students take the test, the scores overestimate the ability of typical seniors. The mean SAT-M score is about 475, but I think if all seniors took the test, the mean would be 450.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ou gave the test to an SRS of 500 seniors from California. These students had an average score of 461. (The SAT-M score follows a normal distribution with a standard deviation of 100.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there sufficient evidence against the claim that the mean for all California seniors is 450 under a significance level of 0.05?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ive a 95% CI for the mean score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of all seniors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71120" y="371160"/>
            <a:ext cx="74487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2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EE83-118E-45D5-84DD-AFFB9E8C4AF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B383E7-4BE3-4A45-89C8-F5C6EB9806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89120" y="4818240"/>
            <a:ext cx="765144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95% confidence interval for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98400" y="380520"/>
            <a:ext cx="756288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"/>
          <p:cNvSpPr/>
          <p:nvPr/>
        </p:nvSpPr>
        <p:spPr>
          <a:xfrm>
            <a:off x="779400" y="2975040"/>
            <a:ext cx="7632720" cy="28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wo-sided, th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-valu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1240" y="1141560"/>
            <a:ext cx="7758360" cy="18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hypotheses ar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test statistic 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2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5686-BD79-4540-A3D5-EF95ADDC559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00E74E-05B0-4D27-9FC3-29BA3C8EA7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ake Home Messag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sts of significan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to use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hypothes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st for a population mean with known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 statist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gnificance level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-value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4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jection region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I and 2-sided t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2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3B57-A903-4A35-B314-471477CBEF8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D5AD2E-C154-49CC-948E-87D9D73B40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99920" y="347400"/>
            <a:ext cx="738972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omework 7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03200" y="1306080"/>
            <a:ext cx="769608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ding in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Section 7.1 pages 450 to 46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rcises in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7.6, 7.10, 7.12, 7.3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Thursday,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May 25, 20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2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3A15-C3FF-4090-B2D5-D5858E748FB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244532-2A98-4194-9D91-3D2DE6BA1669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fidence Interv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0016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int estimate +/- margin of err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fidence interval for a population mean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0 &lt;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&lt; 1,  we define z</a:t>
            </a:r>
            <a:r>
              <a:rPr b="0" lang="el-GR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o be that valu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of Z such that P(Z &gt; z</a:t>
            </a:r>
            <a:r>
              <a:rPr b="0" lang="el-GR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 =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umption: the population variance is know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bove interval is a  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100(1 - </a:t>
            </a:r>
            <a:r>
              <a:rPr b="0" lang="el-GR" sz="2600" spc="-1" strike="noStrike">
                <a:solidFill>
                  <a:srgbClr val="ff3300"/>
                </a:solidFill>
                <a:latin typeface="Arial"/>
                <a:ea typeface="Arial"/>
              </a:rPr>
              <a:t>α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)%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fidence interval fo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, if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.05, then 100(1 - 0.05)%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= 95%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071800" y="2124000"/>
                <a:ext cx="36273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2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9070-39E6-4AAF-A050-9175D8D089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DADBEA-1E27-4C44-B376-D83E389DED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ypothesis Test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times, not interested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imating an unknown parameter, 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ing a confidence interval for the parame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rather, you have some claim 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elief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about the parameter and you want to see whether the data supports the claim or no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adic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2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492A-575E-4A56-A6EF-E2C360695B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65534E-3141-4015-B741-FD632A4CF2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238400"/>
            <a:ext cx="9144000" cy="50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85760" indent="-2286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ritical concepts of hypothesis testing:  two hypothe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the null hypothesi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ment of “no effect” or “no differenc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e alternative 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ment we hope or suspect is tr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ually one would decide on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rst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440" y="458640"/>
            <a:ext cx="76201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cepts of Hypothesis Test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2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FD0A-ADB8-451D-A4FC-892216289D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719FB-DF1A-4046-A54E-E8DFF1DDB08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6040"/>
            <a:ext cx="7619760" cy="8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Biased” one-Euro Coin?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0160" y="1507680"/>
            <a:ext cx="853416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group of Statistics students spin the Belgian one-Euro coin 250 times, and it came up heads 140 tim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5 again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.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s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5 again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≠ .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s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getting a head during each sp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2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E587-8586-4E07-84FA-8C169BC0CF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C7F6B-DE76-44CA-A01C-FF06FC444424}" type="datetime1">
              <a:rPr lang="en-US"/>
              <a:t>07/31/26</a:t>
            </a:fld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58720" y="1273320"/>
            <a:ext cx="80168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new billing system for a company will be cost- effective only if the mean monthly account is more than $170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sample of 400 monthly accounts has a mean of $178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f the accounts are normally distributed with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$65, can we conclude that the new system will be cost effectiv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population is the credit accounts at the stor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e want to show that the mean account for all customers is greater than $170. </a:t>
            </a:r>
            <a:r>
              <a:rPr b="0" i="1" lang="en-US" sz="2100" spc="-1" strike="noStrike">
                <a:solidFill>
                  <a:srgbClr val="ff00ff"/>
                </a:solidFill>
                <a:latin typeface="Arial Narrow"/>
              </a:rPr>
              <a:t>H</a:t>
            </a:r>
            <a:r>
              <a:rPr b="0" i="1" lang="en-US" sz="2100" spc="-1" strike="noStrike" baseline="-25000">
                <a:solidFill>
                  <a:srgbClr val="ff00ff"/>
                </a:solidFill>
                <a:latin typeface="Arial Narrow"/>
              </a:rPr>
              <a:t>a</a:t>
            </a:r>
            <a:r>
              <a:rPr b="0" lang="en-US" sz="2100" spc="-1" strike="noStrike">
                <a:solidFill>
                  <a:srgbClr val="ff00ff"/>
                </a:solidFill>
                <a:latin typeface="Arial Narrow"/>
              </a:rPr>
              <a:t> : </a:t>
            </a:r>
            <a:r>
              <a:rPr b="0" lang="en-US" sz="2100" spc="-1" strike="noStrike">
                <a:solidFill>
                  <a:srgbClr val="ff00ff"/>
                </a:solidFill>
                <a:latin typeface="Symbol"/>
                <a:ea typeface="Symbol"/>
              </a:rPr>
              <a:t></a:t>
            </a:r>
            <a:r>
              <a:rPr b="0" lang="en-US" sz="2100" spc="-1" strike="noStrike">
                <a:solidFill>
                  <a:srgbClr val="ff00ff"/>
                </a:solidFill>
                <a:latin typeface="Arial Narrow"/>
              </a:rPr>
              <a:t> &gt; 170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null hypothesis must specify a single value of the parameter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</a:t>
            </a:r>
            <a:r>
              <a:rPr b="0" i="1" lang="en-US" sz="2100" spc="-1" strike="noStrike">
                <a:solidFill>
                  <a:srgbClr val="ff00ff"/>
                </a:solidFill>
                <a:latin typeface="Arial Narrow"/>
              </a:rPr>
              <a:t>H</a:t>
            </a:r>
            <a:r>
              <a:rPr b="0" i="1" lang="en-US" sz="2100" spc="-1" strike="noStrike" baseline="-25000">
                <a:solidFill>
                  <a:srgbClr val="ff00ff"/>
                </a:solidFill>
                <a:latin typeface="Arial Narrow"/>
              </a:rPr>
              <a:t>0</a:t>
            </a:r>
            <a:r>
              <a:rPr b="0" lang="en-US" sz="2100" spc="-1" strike="noStrike">
                <a:solidFill>
                  <a:srgbClr val="ff00ff"/>
                </a:solidFill>
                <a:latin typeface="Arial Narrow"/>
              </a:rPr>
              <a:t> : </a:t>
            </a:r>
            <a:r>
              <a:rPr b="0" lang="en-US" sz="2100" spc="-1" strike="noStrike">
                <a:solidFill>
                  <a:srgbClr val="ff00ff"/>
                </a:solidFill>
                <a:latin typeface="Symbol"/>
                <a:ea typeface="Symbol"/>
              </a:rPr>
              <a:t></a:t>
            </a:r>
            <a:r>
              <a:rPr b="0" lang="en-US" sz="2100" spc="-1" strike="noStrike">
                <a:solidFill>
                  <a:srgbClr val="ff00ff"/>
                </a:solidFill>
                <a:latin typeface="Arial Narrow"/>
              </a:rPr>
              <a:t> = 170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300"/>
                </a:solidFill>
                <a:latin typeface="Arial Narrow"/>
              </a:rPr>
              <a:t>How can we achieve that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458640"/>
            <a:ext cx="76201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mpany Billing Syste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2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7CB9-DFA5-411B-BB19-007EDC82F75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4A29F-5711-4DF4-98B2-6F15DAF6AB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est statistic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test is based on a statistic, which estimates the parameter that appears in the hypothe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int esti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ues of the estimate far from the parameter value in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ive evidence against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etermines which direction will be counted as “far from the parameter value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2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F324-157F-4B5F-94A6-8C9F80388E7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BB4AD-5390-4A64-ADFF-09BEF184EAE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mpany Billing Syste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28760" y="120780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sample mean of 178 sufficiently greater than 170 to infer that the population mean is greater than 170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Answe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’s assume the population mean is 170, and see how likely it is for us to observe a sample mean of 178 or even mo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2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DAF8-439E-4BFA-9702-0C3CBE50B85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DBE19-4FCB-4EA7-92CE-8928C43DD1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6T19:04:08Z</dcterms:created>
  <dc:creator>G. Andrus</dc:creator>
  <dc:description>Tests of Significance
IPS 6.1 &amp; 6.2</dc:description>
  <dc:language>en-US</dc:language>
  <cp:lastModifiedBy>gandrus</cp:lastModifiedBy>
  <cp:lastPrinted>1998-08-31T15:59:56Z</cp:lastPrinted>
  <dcterms:modified xsi:type="dcterms:W3CDTF">2006-05-16T06:00:25Z</dcterms:modified>
  <cp:revision>259</cp:revision>
  <dc:subject>Statistics</dc:subject>
  <dc:title>IT223 - Data Analy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stat.purdue.edu/~tcai/</vt:lpwstr>
  </property>
  <property fmtid="{D5CDD505-2E9C-101B-9397-08002B2CF9AE}" pid="9" name="LinkColor">
    <vt:r8>16711782</vt:r8>
  </property>
  <property fmtid="{D5CDD505-2E9C-101B-9397-08002B2CF9AE}" pid="10" name="MailAddress">
    <vt:lpwstr>tcai@stat.purdue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T:\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1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