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0896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0896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0896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4A8-4FB2-465D-A35D-D0E293EB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E40-A60B-4D73-859F-55829C86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1E5-1CD7-425A-AE91-EF128FBC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7FD-D0B6-4EA2-8542-1AC8075D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BF8-7147-43E9-A47C-2C7CE11B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BE68-CBE1-487E-9630-2CB25699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A51-1164-4274-BE5A-410AE605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D47-C115-4E23-95C7-9C0A80F8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E756-5C46-45DD-BCDD-A2BF168E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DB1-CDDB-4613-A8F7-42022AA7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462-5D55-4E9C-95C1-F84A123D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0896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0896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0896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D6D-B55B-4064-949D-6E4D5A7E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19040" y="76320"/>
            <a:ext cx="8305920" cy="152280"/>
          </a:xfrm>
          <a:prstGeom prst="rect">
            <a:avLst/>
          </a:prstGeom>
          <a:gradFill rotWithShape="0">
            <a:gsLst>
              <a:gs pos="0">
                <a:srgbClr val="e9ab96"/>
              </a:gs>
              <a:gs pos="100000">
                <a:srgbClr val="cc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F4EE-5FF4-410B-A1EB-20521505AF5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451"/>
              </a:spcBef>
              <a:buClr>
                <a:srgbClr val="00cc99"/>
              </a:buClr>
              <a:buSzPct val="6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Garamond"/>
              </a:rPr>
              <a:t>Introduction to inference</a:t>
            </a:r>
            <a:br>
              <a:rPr sz="4800"/>
            </a:br>
            <a:r>
              <a:rPr b="0" lang="en-US" sz="4800" spc="-1" strike="noStrike">
                <a:solidFill>
                  <a:srgbClr val="cc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Garamond"/>
              </a:rPr>
              <a:t>Tests of significance</a:t>
            </a:r>
            <a:endParaRPr b="0" lang="en-US" sz="3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S chapter 6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6222960"/>
            <a:ext cx="37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5f5f"/>
                </a:solidFill>
                <a:latin typeface="Arial"/>
              </a:rPr>
              <a:t>© 2006 W.H. Freeman and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71600" y="276120"/>
            <a:ext cx="2514600" cy="1760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71600" y="1847880"/>
            <a:ext cx="2514600" cy="1827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rcRect l="0" t="0" r="0" b="10465"/>
          <a:stretch/>
        </p:blipFill>
        <p:spPr>
          <a:xfrm>
            <a:off x="1371600" y="3454560"/>
            <a:ext cx="2514600" cy="1630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rcRect l="0" t="0" r="0" b="693"/>
          <a:stretch/>
        </p:blipFill>
        <p:spPr>
          <a:xfrm>
            <a:off x="5257800" y="27936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257800" y="1841400"/>
            <a:ext cx="2514600" cy="1743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8480" y="254952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= 0.1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480" y="93024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= 0.27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8480" y="409572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= 0.08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908120" y="93024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= 0.07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08120" y="409716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= 0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08120" y="255096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= 0.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"/>
          <a:srcRect l="0" t="-4682" r="0" b="8471"/>
          <a:stretch/>
        </p:blipFill>
        <p:spPr>
          <a:xfrm>
            <a:off x="5257800" y="3378240"/>
            <a:ext cx="2514600" cy="1727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5334120"/>
            <a:ext cx="8305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shaded area becomes very small, the probability of drawing such a sample at random gets very slim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ftenti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P-value of 0.05 or less is considered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gnific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phenomenon observed is unlikely to be entirely due to chance event from the random samp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30520" y="1981080"/>
            <a:ext cx="209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gnificant P-valu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Garamond"/>
              </a:rPr>
              <a:t>Tests for a population mean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515" t="0" r="9090" b="19887"/>
          <a:stretch/>
        </p:blipFill>
        <p:spPr>
          <a:xfrm>
            <a:off x="4191120" y="4068720"/>
            <a:ext cx="4647960" cy="190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932440" y="6019920"/>
            <a:ext cx="145908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ed b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486400" y="6095880"/>
                <a:ext cx="2649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7315200" y="418140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37abf"/>
                </a:solidFill>
                <a:latin typeface="Arial"/>
              </a:rPr>
              <a:t>Sampling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43000" y="5281560"/>
                <a:ext cx="15001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31920" y="48340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√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48308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 test the hypothes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based on an SRS of si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rom a Normal population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unknown mean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known standard deviation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we rely on the properties of the sampling distribu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-value is the area under the sampling distribution for values at least as extreme, in the direc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s that of our random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gain, we first calcul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valu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use Table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46440" y="597384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15297" t="35967" r="12766" b="20878"/>
          <a:stretch/>
        </p:blipFill>
        <p:spPr>
          <a:xfrm>
            <a:off x="2438280" y="762120"/>
            <a:ext cx="6248520" cy="4524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P-value in one-sided and two-side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6386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lculate the P-value for a two-sided test, use the symmetry of the normal curve. Find the P-value for a one-sided test, and doubl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2193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8200" y="2057400"/>
            <a:ext cx="1824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sided (one-tailed)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4560" y="4343400"/>
            <a:ext cx="175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sided (two-tailed)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438280" y="228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oes the packaging machine need revis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20000"/>
              </a:lnSpc>
              <a:spcBef>
                <a:spcPts val="451"/>
              </a:spcBef>
              <a:spcAft>
                <a:spcPts val="337"/>
              </a:spcAft>
              <a:buClr>
                <a:srgbClr val="cc0000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227 g versu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≠ 227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20000"/>
              </a:lnSpc>
              <a:spcBef>
                <a:spcPts val="451"/>
              </a:spcBef>
              <a:spcAft>
                <a:spcPts val="337"/>
              </a:spcAft>
              <a:buClr>
                <a:srgbClr val="cc0000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robability of drawing a random sample such as yours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33601" t="24782" r="6000" b="16576"/>
          <a:stretch/>
        </p:blipFill>
        <p:spPr>
          <a:xfrm>
            <a:off x="0" y="0"/>
            <a:ext cx="1963800" cy="1752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711680" y="2149560"/>
                <a:ext cx="321300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7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228600" y="3048120"/>
            <a:ext cx="4572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able A, the area under the standard normal curve to the lef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0.02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P-value = 2*0.0228 = 4.56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838080" y="2362320"/>
                <a:ext cx="29718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2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4419720" y="4819680"/>
            <a:ext cx="4419360" cy="560520"/>
            <a:chOff x="4419720" y="4819680"/>
            <a:chExt cx="4419360" cy="560520"/>
          </a:xfrm>
        </p:grpSpPr>
        <p:sp>
          <p:nvSpPr>
            <p:cNvPr id="150" name=""/>
            <p:cNvSpPr/>
            <p:nvPr/>
          </p:nvSpPr>
          <p:spPr>
            <a:xfrm>
              <a:off x="7924680" y="4819680"/>
              <a:ext cx="91440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19720" y="4819680"/>
              <a:ext cx="838080" cy="337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7848360" y="5105520"/>
              <a:ext cx="27468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30840" y="5105520"/>
              <a:ext cx="27468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114800" y="3429000"/>
            <a:ext cx="4753080" cy="3200400"/>
            <a:chOff x="4114800" y="3429000"/>
            <a:chExt cx="4753080" cy="320040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rcRect l="0" t="12287" r="0" b="13492"/>
            <a:stretch/>
          </p:blipFill>
          <p:spPr>
            <a:xfrm>
              <a:off x="4114800" y="3429000"/>
              <a:ext cx="47530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277040" y="3657600"/>
              <a:ext cx="1463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9999"/>
                  </a:solidFill>
                  <a:latin typeface="Arial"/>
                </a:rPr>
                <a:t>Sampling distrib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30760" y="439596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√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 2.5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89720" y="4381560"/>
              <a:ext cx="5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48040" y="5172120"/>
              <a:ext cx="685800" cy="260280"/>
            </a:xfrm>
            <a:custGeom>
              <a:avLst/>
              <a:gdLst/>
              <a:ahLst/>
              <a:rect l="l" t="t" r="r" b="b"/>
              <a:pathLst>
                <a:path w="384" h="150">
                  <a:moveTo>
                    <a:pt x="0" y="150"/>
                  </a:moveTo>
                  <a:lnTo>
                    <a:pt x="144" y="132"/>
                  </a:lnTo>
                  <a:lnTo>
                    <a:pt x="231" y="117"/>
                  </a:lnTo>
                  <a:lnTo>
                    <a:pt x="327" y="57"/>
                  </a:lnTo>
                  <a:lnTo>
                    <a:pt x="384" y="0"/>
                  </a:lnTo>
                  <a:lnTo>
                    <a:pt x="384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547760" y="5172120"/>
              <a:ext cx="685800" cy="260280"/>
            </a:xfrm>
            <a:custGeom>
              <a:avLst/>
              <a:gdLst/>
              <a:ahLst/>
              <a:rect l="l" t="t" r="r" b="b"/>
              <a:pathLst>
                <a:path w="384" h="150">
                  <a:moveTo>
                    <a:pt x="0" y="150"/>
                  </a:moveTo>
                  <a:lnTo>
                    <a:pt x="144" y="132"/>
                  </a:lnTo>
                  <a:lnTo>
                    <a:pt x="231" y="117"/>
                  </a:lnTo>
                  <a:lnTo>
                    <a:pt x="327" y="57"/>
                  </a:lnTo>
                  <a:lnTo>
                    <a:pt x="384" y="0"/>
                  </a:lnTo>
                  <a:lnTo>
                    <a:pt x="384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5907240"/>
              <a:ext cx="8496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µ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5116680" y="5938920"/>
                  <a:ext cx="68868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3" name=""/>
            <p:cNvSpPr/>
            <p:nvPr/>
          </p:nvSpPr>
          <p:spPr>
            <a:xfrm>
              <a:off x="6489720" y="36068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16600" y="5562720"/>
              <a:ext cx="838080" cy="1066680"/>
            </a:xfrm>
            <a:prstGeom prst="ellipse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4848120"/>
            <a:ext cx="457200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bability of getting a rand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average so different fro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o low that we rej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chine does need recalib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Garamond"/>
              </a:rPr>
              <a:t>The significance level </a:t>
            </a:r>
            <a:r>
              <a:rPr b="0" i="1" lang="en-US" sz="40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50000"/>
              </a:lnSpc>
              <a:spcBef>
                <a:spcPts val="499"/>
              </a:spcBef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gnificance level,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s the largest P-value tolerated for rejecting a true null hypothesis (how much evidence again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 require). This value is decided arbitrari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ducting the te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00880">
              <a:lnSpc>
                <a:spcPct val="180000"/>
              </a:lnSpc>
              <a:spcBef>
                <a:spcPts val="499"/>
              </a:spcBef>
              <a:spcAft>
                <a:spcPts val="249"/>
              </a:spcAft>
              <a:buClr>
                <a:srgbClr val="cc0000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-value is equal to or less than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 ≤ </a:t>
            </a:r>
            <a:r>
              <a:rPr b="1" i="1" lang="el-GR" sz="20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then w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jec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00880">
              <a:lnSpc>
                <a:spcPct val="180000"/>
              </a:lnSpc>
              <a:spcBef>
                <a:spcPts val="499"/>
              </a:spcBef>
              <a:spcAft>
                <a:spcPts val="1500"/>
              </a:spcAft>
              <a:buClr>
                <a:srgbClr val="cc0000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-value is greater tha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 &gt; </a:t>
            </a:r>
            <a:r>
              <a:rPr b="1" i="1" lang="el-GR" sz="20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then w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ail to rejec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33119" t="24525" r="36719" b="43833"/>
          <a:stretch/>
        </p:blipFill>
        <p:spPr>
          <a:xfrm>
            <a:off x="8193240" y="4495680"/>
            <a:ext cx="950760" cy="863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9480" y="4572000"/>
            <a:ext cx="80773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the packaging machine need revision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sided test. The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is 4.56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If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d been set to 5%, then the P-value would be significa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* If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d been set to 1%, then the P-value woul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signific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724280" cy="3413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5334" t="0" r="9335" b="0"/>
          <a:stretch/>
        </p:blipFill>
        <p:spPr>
          <a:xfrm>
            <a:off x="304920" y="3352680"/>
            <a:ext cx="4876560" cy="3337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533520"/>
            <a:ext cx="388620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z score falls within the rejection region (shaded area on the tail-side), the p-value is smaller tha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d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 have shown statistical signific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29680" y="380880"/>
            <a:ext cx="1600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3086280"/>
            <a:ext cx="3048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3480" y="307332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 = -1.6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6413400"/>
            <a:ext cx="762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3429000"/>
            <a:ext cx="1523880" cy="685800"/>
          </a:xfrm>
          <a:prstGeom prst="borderCallout1">
            <a:avLst>
              <a:gd name="adj1" fmla="val 18750"/>
              <a:gd name="adj2" fmla="val -8333"/>
              <a:gd name="adj3" fmla="val -44444"/>
              <a:gd name="adj4" fmla="val -1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sided test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5486400"/>
            <a:ext cx="1523880" cy="685800"/>
          </a:xfrm>
          <a:prstGeom prst="borderCallout1">
            <a:avLst>
              <a:gd name="adj1" fmla="val 18750"/>
              <a:gd name="adj2" fmla="val -8333"/>
              <a:gd name="adj3" fmla="val 128240"/>
              <a:gd name="adj4" fmla="val -29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sided test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572000" cy="26672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aramond"/>
              </a:rPr>
              <a:t>Rejection region for a two-tail test of </a:t>
            </a:r>
            <a:r>
              <a:rPr b="1" i="1" lang="en-US" sz="2400" spc="-1" strike="noStrike">
                <a:solidFill>
                  <a:srgbClr val="333399"/>
                </a:solidFill>
                <a:latin typeface="Garamond"/>
                <a:ea typeface="Arial"/>
              </a:rPr>
              <a:t>µ</a:t>
            </a:r>
            <a:r>
              <a:rPr b="1" lang="en-US" sz="2400" spc="-1" strike="noStrike">
                <a:solidFill>
                  <a:srgbClr val="333399"/>
                </a:solidFill>
                <a:latin typeface="Garamond"/>
              </a:rPr>
              <a:t> with </a:t>
            </a:r>
            <a:r>
              <a:rPr b="1" i="1" lang="el-GR" sz="2400" spc="-1" strike="noStrike">
                <a:solidFill>
                  <a:srgbClr val="333399"/>
                </a:solidFill>
                <a:latin typeface="Garamond"/>
              </a:rPr>
              <a:t>α</a:t>
            </a:r>
            <a:r>
              <a:rPr b="1" lang="en-US" sz="2400" spc="-1" strike="noStrike">
                <a:solidFill>
                  <a:srgbClr val="333399"/>
                </a:solidFill>
                <a:latin typeface="Garamond"/>
              </a:rPr>
              <a:t> = 0.05 (5%)</a:t>
            </a:r>
            <a:endParaRPr b="0" lang="en-US" sz="24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rcRect l="11033" t="0" r="7141" b="0"/>
          <a:stretch/>
        </p:blipFill>
        <p:spPr>
          <a:xfrm>
            <a:off x="304920" y="3978360"/>
            <a:ext cx="1600200" cy="101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152280" y="4968720"/>
          <a:ext cx="8839440" cy="1508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968720"/>
                    <a:ext cx="883944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1295280"/>
            <a:ext cx="4267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wo-sided test means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pread between both tails of the curve, thus:</a:t>
            </a:r>
            <a:br>
              <a:rPr sz="1800"/>
            </a:br>
            <a:br>
              <a:rPr sz="1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 middle are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95%, and</a:t>
            </a:r>
            <a:br>
              <a:rPr sz="1800"/>
            </a:br>
            <a:br>
              <a:rPr sz="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n upper tail area of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0.0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7920" y="4281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16200" y="5219640"/>
            <a:ext cx="7086600" cy="762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15080" y="4889520"/>
            <a:ext cx="533160" cy="16002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48240" y="3949560"/>
            <a:ext cx="2438640" cy="2210040"/>
          </a:xfrm>
          <a:custGeom>
            <a:avLst/>
            <a:gdLst/>
            <a:ahLst/>
            <a:rect l="l" t="t" r="r" b="b"/>
            <a:pathLst>
              <a:path w="1536" h="1392">
                <a:moveTo>
                  <a:pt x="0" y="1392"/>
                </a:moveTo>
                <a:cubicBezTo>
                  <a:pt x="256" y="1292"/>
                  <a:pt x="512" y="1192"/>
                  <a:pt x="768" y="960"/>
                </a:cubicBezTo>
                <a:cubicBezTo>
                  <a:pt x="1024" y="728"/>
                  <a:pt x="1280" y="364"/>
                  <a:pt x="1536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43480" y="2971800"/>
            <a:ext cx="1371600" cy="1905120"/>
          </a:xfrm>
          <a:custGeom>
            <a:avLst/>
            <a:gdLst/>
            <a:ahLst/>
            <a:rect l="l" t="t" r="r" b="b"/>
            <a:pathLst>
              <a:path w="816" h="1200">
                <a:moveTo>
                  <a:pt x="0" y="0"/>
                </a:moveTo>
                <a:cubicBezTo>
                  <a:pt x="100" y="356"/>
                  <a:pt x="200" y="712"/>
                  <a:pt x="336" y="912"/>
                </a:cubicBezTo>
                <a:cubicBezTo>
                  <a:pt x="472" y="1112"/>
                  <a:pt x="644" y="1156"/>
                  <a:pt x="816" y="120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77320" y="32767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327672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Garamond"/>
              </a:rPr>
              <a:t>Confidence intervals to test hypotheses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a two-sided test is symmetrical, you can also use a confidence interval to test a two-sided hypo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095640" y="1828800"/>
            <a:ext cx="5667480" cy="3379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630600" y="3940200"/>
            <a:ext cx="59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97880" y="3940200"/>
            <a:ext cx="59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3960" y="2389320"/>
            <a:ext cx="260676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two-sided test, </a:t>
            </a:r>
            <a:br>
              <a:rPr sz="1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–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confidence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significanc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0" y="5334120"/>
            <a:ext cx="9144000" cy="1523880"/>
            <a:chOff x="0" y="5334120"/>
            <a:chExt cx="9144000" cy="1523880"/>
          </a:xfrm>
        </p:grpSpPr>
        <p:sp>
          <p:nvSpPr>
            <p:cNvPr id="200" name=""/>
            <p:cNvSpPr/>
            <p:nvPr/>
          </p:nvSpPr>
          <p:spPr>
            <a:xfrm>
              <a:off x="0" y="5334120"/>
              <a:ext cx="9144000" cy="1523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5486400"/>
              <a:ext cx="82296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cks of cherry tomatoes (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σ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 5 g):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Times New Roman"/>
                </a:rPr>
                <a:t>0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: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 227 g versus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  <a:ea typeface="Times New Roman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: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≠ 227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ample average 222 g. 95% CI fo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= 222 ± 1.96*5/√4 = 222 g ± 4.9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spcAft>
                  <a:spcPts val="3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27 g does not belong to the 95% CI (217.1 to 226.9 g). Thus, we rejec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838080"/>
            <a:ext cx="7924680" cy="3581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62120" y="95256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: Your sample gives a 99% confidence interval of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99% confidence, could samples be from populations with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0.86?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0.85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17642" r="0" b="0"/>
          <a:stretch/>
        </p:blipFill>
        <p:spPr>
          <a:xfrm>
            <a:off x="1143000" y="1905120"/>
            <a:ext cx="7223040" cy="24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562720" y="1066680"/>
                <a:ext cx="207144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3378240" y="2754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Times New Roman"/>
              </a:rPr>
              <a:t>99% C.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aramond"/>
              </a:rPr>
              <a:t>Logic of confidence interval test</a:t>
            </a:r>
            <a:endParaRPr b="0" lang="en-US" sz="24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08" name=""/>
          <p:cNvSpPr/>
          <p:nvPr/>
        </p:nvSpPr>
        <p:spPr>
          <a:xfrm>
            <a:off x="5372280" y="2678040"/>
            <a:ext cx="0" cy="1143000"/>
          </a:xfrm>
          <a:prstGeom prst="line">
            <a:avLst/>
          </a:prstGeom>
          <a:ln w="572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911760" y="3259080"/>
                <a:ext cx="3283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6730920" y="2678040"/>
            <a:ext cx="0" cy="1143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1905120"/>
            <a:ext cx="6858000" cy="914400"/>
          </a:xfrm>
          <a:prstGeom prst="rect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24600" y="1873080"/>
            <a:ext cx="1640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annot re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9966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9966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 = 0.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54400" y="2311560"/>
            <a:ext cx="21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ject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0.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457200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nfidence interval gives a black and white answer: Reject or don't rej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But it also estimates a range of likely values for the true population me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-value quantifies how strong the evidence is against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But if you rej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t doesn’t provide any information about the true population me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Garamond"/>
              </a:rPr>
              <a:t>Homework 6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g in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s 6.1 and 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rc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10, 6.24, 6.36, 6.62, 6.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May 18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Garamond"/>
              </a:rPr>
              <a:t>Objectives (IPS chapter 6.2)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sts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380880">
              <a:lnSpc>
                <a:spcPct val="130000"/>
              </a:lnSpc>
              <a:spcBef>
                <a:spcPts val="499"/>
              </a:spcBef>
              <a:spcAft>
                <a:spcPts val="1125"/>
              </a:spcAft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 and alternative hypoth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380880">
              <a:lnSpc>
                <a:spcPct val="130000"/>
              </a:lnSpc>
              <a:spcBef>
                <a:spcPts val="499"/>
              </a:spcBef>
              <a:spcAft>
                <a:spcPts val="1125"/>
              </a:spcAft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sided and two-sided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380880">
              <a:lnSpc>
                <a:spcPct val="130000"/>
              </a:lnSpc>
              <a:spcBef>
                <a:spcPts val="499"/>
              </a:spcBef>
              <a:spcAft>
                <a:spcPts val="1125"/>
              </a:spcAft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380880">
              <a:lnSpc>
                <a:spcPct val="130000"/>
              </a:lnSpc>
              <a:spcBef>
                <a:spcPts val="499"/>
              </a:spcBef>
              <a:spcAft>
                <a:spcPts val="1125"/>
              </a:spcAft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 for a population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380880">
              <a:lnSpc>
                <a:spcPct val="130000"/>
              </a:lnSpc>
              <a:spcBef>
                <a:spcPts val="499"/>
              </a:spcBef>
              <a:spcAft>
                <a:spcPts val="1125"/>
              </a:spcAft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gnificance leve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380880">
              <a:lnSpc>
                <a:spcPct val="130000"/>
              </a:lnSpc>
              <a:spcBef>
                <a:spcPts val="499"/>
              </a:spcBef>
              <a:spcAft>
                <a:spcPts val="1125"/>
              </a:spcAft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s to test hypoth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895480"/>
            <a:ext cx="9144000" cy="3962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seen that the properties of the sampling distribu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r help us estimate a range of likely values for population mea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also rely on the properties of the sample distribution to test hypotheses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You are in charge of quality control in your food company. You sample randomly four packs of cherry tomatoes, each labeled 1/2 lb. (227 g)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verage weight from your four boxes is 222 g. Obviously, we cannot expect boxes filled with whole tomatoes to all weigh exactly half a pound. Th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25440">
              <a:lnSpc>
                <a:spcPct val="120000"/>
              </a:lnSpc>
              <a:spcBef>
                <a:spcPts val="1349"/>
              </a:spcBef>
              <a:buClr>
                <a:srgbClr val="cc0000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omewhat smaller weight simply due to chance vari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325440">
              <a:lnSpc>
                <a:spcPct val="120000"/>
              </a:lnSpc>
              <a:spcBef>
                <a:spcPts val="1349"/>
              </a:spcBef>
              <a:buClr>
                <a:srgbClr val="cc0000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evidence that the calibrating machine that sor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rry tomatoes into packs needs revis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33119" t="24525" r="36719" b="43309"/>
          <a:stretch/>
        </p:blipFill>
        <p:spPr>
          <a:xfrm>
            <a:off x="7800840" y="5759280"/>
            <a:ext cx="13431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3733920"/>
            <a:ext cx="7925040" cy="23619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Garamond"/>
              </a:rPr>
              <a:t>Null and alternative hypotheses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499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test of statistical signific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ests a specific hypothesis using sample data to decide on the validity of the hypothe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statistics, 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ypo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s an assumption or a theory about the characteristics of one or more variables in one or more popu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140000"/>
              </a:lnSpc>
              <a:spcBef>
                <a:spcPts val="300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140000"/>
              </a:lnSpc>
              <a:spcBef>
                <a:spcPts val="451"/>
              </a:spcBef>
              <a:spcAft>
                <a:spcPts val="10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you want to know: Does the calibrating machine that sorts cherry tomatoes into packs need revis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140000"/>
              </a:lnSpc>
              <a:spcBef>
                <a:spcPts val="451"/>
              </a:spcBef>
              <a:spcAft>
                <a:spcPts val="10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ame question reframed statistically: Is the population me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 the distribution of weights of cherry tomato packages equal to 227 g (i.e., half a pound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954920" y="5764320"/>
            <a:ext cx="118908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4191120"/>
            <a:ext cx="7925040" cy="1904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762120"/>
            <a:ext cx="82296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499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null hypo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very specific statement about a parameter of the population(s). It is labe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00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alternative hypo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more general statement about a parameter of the population(s) that is exclusive of the null hypothesis. It is labe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spcAft>
                <a:spcPts val="1125"/>
              </a:spcAft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40000"/>
              </a:lnSpc>
              <a:spcBef>
                <a:spcPts val="45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ight of cherry tomato pac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40000"/>
              </a:lnSpc>
              <a:spcBef>
                <a:spcPts val="45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227 g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average weight of the population of pac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60000"/>
              </a:lnSpc>
              <a:spcBef>
                <a:spcPts val="45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≠ 227 g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either larger or small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33119" t="24525" r="36719" b="43309"/>
          <a:stretch/>
        </p:blipFill>
        <p:spPr>
          <a:xfrm>
            <a:off x="7954920" y="577368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Garamond"/>
              </a:rPr>
              <a:t>One-sided and two-sided tests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two-tail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or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two-sided 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population mean has these null and alternative hypothe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 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[a specific number]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[a specific numbe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one-tail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or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ne-sided 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f a population mean has these null and alternative hypothe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 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[a specific number]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 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&lt; [a specific number]     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 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[a specific number]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 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&gt; [a specific numbe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36972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DA tests whether a generic drug has an absorption extent similar to the known absorption extent of the brand-name drug it is copying. Higher or lower absorption would both be problematic, thus we t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6095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9720" indent="-325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gene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b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gene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b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s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47640" y="2362320"/>
            <a:ext cx="8001000" cy="2819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How to choose?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etermines the choice of a one-sided versus a two-sided test is what we know about the proble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 perform a test of statistical signific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ealth advocacy group tests whether the mean nicotine content of a brand of cigarettes is greater than the advertised value of 1.4 m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4290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39816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, the health advocacy group suspects that cigarette manufacturers sell cigarettes with a nicotine content higher than what they advertise in order to better addict consumers to their products and maintain reven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816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is is a one-sided tes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.4 m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1.4 m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556272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mportant to make that choice before performing the test or else you could make a choic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ni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fall in circular log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1224000"/>
            <a:ext cx="8458200" cy="2052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Garamond"/>
              </a:rPr>
              <a:t>The P-value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244520"/>
            <a:ext cx="830556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ckaging process has a known standard deviatio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227 g versu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≠ 227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verage weight from your four random boxes is 222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robability of drawing a random sample such as yours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808440"/>
            <a:ext cx="838188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 of statistical significance quantify the chance of obtaining a particular random sample result if the null hypothesis were true.  This quantity is 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-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way of assessing the “believability” of the null hypothesis given the evidence provided by a random s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33025" t="24597" r="36785" b="43278"/>
          <a:stretch/>
        </p:blipFill>
        <p:spPr>
          <a:xfrm>
            <a:off x="7772400" y="1219320"/>
            <a:ext cx="106668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Interpreting a P-value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ld random variation alone account for the difference between the null hypothesis and observations from a random sampl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30000"/>
              </a:lnSpc>
              <a:spcBef>
                <a:spcPts val="1250"/>
              </a:spcBef>
              <a:spcAft>
                <a:spcPts val="1749"/>
              </a:spcAft>
              <a:buClr>
                <a:srgbClr val="cc0000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mall P-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lies that random variation because of the sampling process alone is not likely to account for the observed differ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30000"/>
              </a:lnSpc>
              <a:spcBef>
                <a:spcPts val="1250"/>
              </a:spcBef>
              <a:spcAft>
                <a:spcPts val="1749"/>
              </a:spcAft>
              <a:buClr>
                <a:srgbClr val="cc0000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 small p-value w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jec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true property of the population i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gnificant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fferent from what was stated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small P-values are strong evidence AGAINS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3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t how small is small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03:45:36Z</dcterms:created>
  <dc:creator>Brigitte Baldi</dc:creator>
  <dc:description/>
  <dc:language>en-US</dc:language>
  <cp:lastModifiedBy>gandrus</cp:lastModifiedBy>
  <cp:lastPrinted>2003-07-12T15:26:38Z</cp:lastPrinted>
  <dcterms:modified xsi:type="dcterms:W3CDTF">2006-05-09T22:29:49Z</dcterms:modified>
  <cp:revision>549</cp:revision>
  <dc:subject/>
  <dc:title>Slide 1</dc:title>
</cp:coreProperties>
</file>