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BB7-B4B3-41ED-B0A0-5606E810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409-6168-4248-B932-3D2D885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521-3AE5-4950-840D-EDAF6FC9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FBC-93F4-4ECD-8E16-72F38B5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694C-AFBC-4251-9F6C-3CB7019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76C-91FE-4D9D-A96C-7F1ADF5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4EB0-7530-4751-BFA9-F13DC88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073-A58D-49C5-94AD-ED73634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197E-8D37-47E9-95D6-95EE5A1B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FF1-CA45-42E2-9318-DDC8B1E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88C-C61C-429D-A96D-75E1B78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BE2-F2A8-463A-9701-BE0442DF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B79F-3645-4A3F-808A-207E0A9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E26E-3C48-44B4-82DE-548DF22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9713-A241-4308-A5DB-A14A4D49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82C-9693-43D3-B45E-2436F94B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A21-50A5-4C28-B5C6-444230C5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BDA-7F91-4E66-82D4-B342436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FB7-E183-4521-BF6D-6F03B7D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6DE-8417-459C-8D20-6A1FB6E4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B90-F95E-407F-A1B0-3501363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1E3-7ED5-4E6F-B851-E9826C7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387-05B3-4173-9F04-6F285F2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245-E542-4EDA-B011-DD97C76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ctur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318-093E-4D0B-BCC5-D08D1F4183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ctur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75D-1FFC-4017-9820-D2EBCB9DF8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ex02-046.txt" TargetMode="External"/><Relationship Id="rId2" Type="http://schemas.openxmlformats.org/officeDocument/2006/relationships/hyperlink" Target="file:///ex02-102.tx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w Plan For Rest of Cou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2.3 (this power po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i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4, 2.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s 3 and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Chapter 5 (Sampling Dstn’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Chapter 6 (Statistical Infere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ime do 7.1 and 7.2 (more infere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D9C-6722-49FA-B2E7-81A4CFA7D9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to fit a li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44560" y="1600200"/>
            <a:ext cx="56530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845-800D-4ED9-8B3D-DCD54A6654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rr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8482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EEF-AA45-455F-843C-7768385590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ast-Square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athematically, the line is determined by minimizing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4554360"/>
                <a:ext cx="66294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70572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748-E6FA-4A74-89C0-C96945A7C4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622440"/>
            <a:ext cx="8531280" cy="560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71A-9638-4DB5-B190-2ED996EDED8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preting the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lope </a:t>
            </a:r>
            <a:r>
              <a:rPr b="0" i="1" lang="en-US" sz="2600" spc="-1" strike="noStrike">
                <a:solidFill>
                  <a:srgbClr val="ff0066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u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ng the regression line,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a change of one standard deviation in x                            a change of  r standard deviations in y</a:t>
            </a: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nge of </a:t>
            </a: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it in x                           r  units in 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int                 is always on-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both x and y are standardized, the slope will be 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cept will be 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352680"/>
            <a:ext cx="16002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666880"/>
            <a:ext cx="16002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14600" y="388620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09B-AA20-4E5E-96E9-92573858DA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: Age vs. He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28800" y="1146240"/>
            <a:ext cx="5486400" cy="3882960"/>
            <a:chOff x="1828800" y="1146240"/>
            <a:chExt cx="5486400" cy="3882960"/>
          </a:xfrm>
        </p:grpSpPr>
        <p:sp>
          <p:nvSpPr>
            <p:cNvPr id="120" name=""/>
            <p:cNvSpPr/>
            <p:nvPr/>
          </p:nvSpPr>
          <p:spPr>
            <a:xfrm>
              <a:off x="1828800" y="1146240"/>
              <a:ext cx="5486400" cy="38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08240" y="4478040"/>
              <a:ext cx="47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3760" y="4422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208240" y="3705120"/>
              <a:ext cx="475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3760" y="36478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208240" y="2931840"/>
              <a:ext cx="47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93760" y="2874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08240" y="2158920"/>
              <a:ext cx="475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93760" y="2101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8240" y="1384200"/>
              <a:ext cx="475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93760" y="13284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581120" y="2868840"/>
              <a:ext cx="884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eight (in centimeter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760" y="1393560"/>
              <a:ext cx="4954680" cy="31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425680" y="44460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449440" y="44226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449440" y="44460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5680" y="44226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449440" y="4438080"/>
              <a:ext cx="144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49440" y="441468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5960" y="4446360"/>
              <a:ext cx="414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449440" y="4446360"/>
              <a:ext cx="316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160" y="409212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842560" y="4066920"/>
              <a:ext cx="255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842560" y="4092120"/>
              <a:ext cx="255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160" y="406692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42920" y="4084200"/>
              <a:ext cx="180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2920" y="4059000"/>
              <a:ext cx="1800" cy="33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1240" y="4092480"/>
              <a:ext cx="414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42560" y="4092480"/>
              <a:ext cx="334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214440" y="3673080"/>
              <a:ext cx="2412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238560" y="364788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238560" y="367308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14440" y="3647880"/>
              <a:ext cx="2412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238560" y="3665160"/>
              <a:ext cx="144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38560" y="3639960"/>
              <a:ext cx="1440" cy="33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6520" y="3673440"/>
              <a:ext cx="3996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38560" y="3673440"/>
              <a:ext cx="31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09720" y="3632040"/>
              <a:ext cx="2412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633840" y="360828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633840" y="363204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09720" y="3608280"/>
              <a:ext cx="2412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633840" y="3624120"/>
              <a:ext cx="1440" cy="41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3840" y="360036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0360" y="3632040"/>
              <a:ext cx="414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633840" y="3632040"/>
              <a:ext cx="31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11480" y="3398400"/>
              <a:ext cx="255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37040" y="33750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037040" y="33984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1480" y="3375000"/>
              <a:ext cx="255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037040" y="3390480"/>
              <a:ext cx="144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7040" y="336708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3560" y="3398760"/>
              <a:ext cx="414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037040" y="3398760"/>
              <a:ext cx="31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406760" y="3052440"/>
              <a:ext cx="23760" cy="23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30520" y="302868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430520" y="3052440"/>
              <a:ext cx="23760" cy="23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06760" y="302868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430520" y="3044520"/>
              <a:ext cx="1800" cy="39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30520" y="3020760"/>
              <a:ext cx="180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98840" y="3052440"/>
              <a:ext cx="396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430520" y="3052440"/>
              <a:ext cx="316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802040" y="29714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25800" y="2947680"/>
              <a:ext cx="23760" cy="23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25800" y="29714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2040" y="2947680"/>
              <a:ext cx="23760" cy="23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25800" y="2963520"/>
              <a:ext cx="1800" cy="39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25800" y="2939760"/>
              <a:ext cx="1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94120" y="2971800"/>
              <a:ext cx="396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825800" y="2971800"/>
              <a:ext cx="31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195880" y="2512440"/>
              <a:ext cx="2520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221080" y="24890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5221080" y="25124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95880" y="2489040"/>
              <a:ext cx="2520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221080" y="2504520"/>
              <a:ext cx="180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21080" y="2481120"/>
              <a:ext cx="180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7960" y="2512800"/>
              <a:ext cx="410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221080" y="2512800"/>
              <a:ext cx="316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91160" y="247140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614920" y="24476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614920" y="247140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91160" y="244764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14920" y="2463480"/>
              <a:ext cx="1440" cy="41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243972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3240" y="2471400"/>
              <a:ext cx="396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614920" y="2471400"/>
              <a:ext cx="316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86440" y="223776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010200" y="221436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010200" y="223776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6440" y="221436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0200" y="2230200"/>
              <a:ext cx="1440" cy="41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0200" y="220644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238120"/>
              <a:ext cx="396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10200" y="2238120"/>
              <a:ext cx="3168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379920" y="1852200"/>
              <a:ext cx="255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405480" y="1827000"/>
              <a:ext cx="237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405480" y="185220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79920" y="1827000"/>
              <a:ext cx="25560" cy="25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405480" y="1844280"/>
              <a:ext cx="144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5480" y="1819080"/>
              <a:ext cx="1440" cy="33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2000" y="1852560"/>
              <a:ext cx="414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405480" y="1852560"/>
              <a:ext cx="31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5200" y="1577520"/>
              <a:ext cx="2412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799320" y="155412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799320" y="1577520"/>
              <a:ext cx="2376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75200" y="1554120"/>
              <a:ext cx="24120" cy="23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799320" y="1569600"/>
              <a:ext cx="1440" cy="39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9320" y="1546200"/>
              <a:ext cx="1440" cy="3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67280" y="1577880"/>
              <a:ext cx="3996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99320" y="1577880"/>
              <a:ext cx="3312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255760" y="3697200"/>
              <a:ext cx="1231920" cy="7725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87680" y="2931480"/>
              <a:ext cx="1241280" cy="765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728960" y="2166840"/>
              <a:ext cx="1231920" cy="7646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960880" y="1399680"/>
              <a:ext cx="1241640" cy="766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255400" y="1384200"/>
              <a:ext cx="49467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55760" y="1384200"/>
              <a:ext cx="1440" cy="309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5760" y="4478040"/>
              <a:ext cx="49467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202520" y="1383840"/>
              <a:ext cx="1440" cy="309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55760" y="4478040"/>
              <a:ext cx="144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5480" y="45352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6480" y="4478040"/>
              <a:ext cx="144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98600" y="4535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6840" y="4478040"/>
              <a:ext cx="18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8360" y="45352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2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1080" y="4478040"/>
              <a:ext cx="18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72120" y="4535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11800" y="4478040"/>
              <a:ext cx="144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31520" y="45352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7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02520" y="4478040"/>
              <a:ext cx="144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54640" y="4535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8280" y="4671720"/>
              <a:ext cx="62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ge (in month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28520" y="1323720"/>
              <a:ext cx="5383440" cy="3522240"/>
            </a:xfrm>
            <a:prstGeom prst="rect">
              <a:avLst/>
            </a:prstGeom>
            <a:noFill/>
            <a:ln w="7920">
              <a:solidFill>
                <a:srgbClr val="aca8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19320" y="5029200"/>
                <a:ext cx="2431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914400" y="5410080"/>
                <a:ext cx="2768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46600" y="5257800"/>
                <a:ext cx="1411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486400" y="4800600"/>
                <a:ext cx="22096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486400" y="5562720"/>
                <a:ext cx="2209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AB3-4786-408B-A8D1-679AE46BBC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dic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prediction when the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natory variable X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average height for a child who is 30-month o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about a 30-year o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polation: predict y for a value of x which lies outside the range of the data used to fit the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extrapolate too much for predic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24280" y="19051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90720" y="1143000"/>
                <a:ext cx="2971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458-8FDF-4F83-9C7C-4A3AAD6145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relation and Regres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for linear relationship between two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sign betwee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es not depend on which is x and which is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regression line do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A1E-AFFB-4BD2-9965-7AF2F0F886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ression lines depend on (x,y) or (y,x)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36560" y="1600200"/>
            <a:ext cx="58690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C91-318B-4303-82CA-C6C0DC6F68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efficient of Determination r</a:t>
            </a:r>
            <a:r>
              <a:rPr b="0" lang="en-US" sz="4200" spc="-1" strike="noStrike" baseline="30000">
                <a:solidFill>
                  <a:srgbClr val="006633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square of the correlation, r</a:t>
            </a:r>
            <a:r>
              <a:rPr b="1" lang="en-US" sz="2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s the proportion of variation in the values of y that is explained by the regression model with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rger 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 stronger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latio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o 1, the more confident we are in our predi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CDA-F6B6-4A33-B779-3CD7B0DD49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6068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IT 223 Data Analysi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10: Least-Squares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0492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u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of C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484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2CDA-461F-4574-8861-B6ADA49D3E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 vs. Height: r</a:t>
            </a:r>
            <a:r>
              <a:rPr b="0" lang="en-US" sz="4200" spc="-1" strike="noStrike" baseline="30000">
                <a:solidFill>
                  <a:srgbClr val="006633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=0.9888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36560" y="1600200"/>
            <a:ext cx="58690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0B0-F469-4187-BBE9-0465F72F35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 vs. Height: r</a:t>
            </a:r>
            <a:r>
              <a:rPr b="0" lang="en-US" sz="4200" spc="-1" strike="noStrike" baseline="30000">
                <a:solidFill>
                  <a:srgbClr val="006633"/>
                </a:solidFill>
                <a:latin typeface="Garamond"/>
              </a:rPr>
              <a:t>2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=0.849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685880" y="1600200"/>
            <a:ext cx="5770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0C-E1EE-469B-BC2E-2FF3AF1D5F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ake Home Mess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st-Squares 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ression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ation and interpretation of the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ion using the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and 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efficient of Deter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73480" y="1428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6161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8591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9877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186520" y="1428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5672160" y="142884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2A0-ACE1-47B1-8868-B1EBDB5745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mework 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ages 135 – 14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hapte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rcises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2.46, 2.102, 2.1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5.12, 5.20, 5.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ata set for 2.46: 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ex02-046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ata set for 2.102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ex02-102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uesday, May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BBA-AE50-4019-B0BA-CECB0A3CD3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catter pl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ion: form, direction, streng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ust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graph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not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numer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ion, strength, lin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Vertical and Horizontal lines: r=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ation can not tell the exact relation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601-33AE-4C81-9452-5F0F555E3C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op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st-Squares 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ression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ation and interpretation of the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ion using the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and Reg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efficient of Deter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7A5-934A-41C9-90AE-0FBE4DC486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 vs. Mean He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912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0DD-0C23-40B6-AD0D-6E1014B446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</a:t>
            </a:r>
            <a:r>
              <a:rPr b="0" lang="en-US" sz="4200" spc="-1" strike="noStrike">
                <a:solidFill>
                  <a:srgbClr val="ff0066"/>
                </a:solidFill>
                <a:latin typeface="Garamond"/>
              </a:rPr>
              <a:t>predict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mean height at age 32 month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44560" y="1600200"/>
            <a:ext cx="56530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BBA-4C7F-4740-9AA2-9B6C44C689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Regres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ation measures the direction and strength of the linear relationship between two quantitative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regression 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es the relationship between two variables if the form of the relationship is lin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s how a response variable y changes as an explanatory variable x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 often used as a mathematical model to predict the value of a response variable y based on a value of an explanatory variable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F55-26D8-4919-9DA4-C219781DB2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486080"/>
            <a:ext cx="8531280" cy="39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832-CBB0-4381-A6C6-C1E1D47D4E7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955880"/>
            <a:ext cx="8531280" cy="29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505-45CE-466F-962A-CE3990DB5BF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6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9:38:19Z</dcterms:created>
  <dc:creator>G. Andrus</dc:creator>
  <dc:description/>
  <dc:language>en-US</dc:language>
  <cp:lastModifiedBy>faculty</cp:lastModifiedBy>
  <cp:lastPrinted>2004-02-02T15:47:19Z</cp:lastPrinted>
  <dcterms:modified xsi:type="dcterms:W3CDTF">2006-05-02T16:15:09Z</dcterms:modified>
  <cp:revision>137</cp:revision>
  <dc:subject>Least-squares regression</dc:subject>
  <dc:title>IT223 - Data Analysis</dc:title>
</cp:coreProperties>
</file>