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1C6-83D2-47A7-81A5-06D6D2FA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A3F-D32B-4560-B2C9-F9A129C5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1BD-D08D-4E35-A18D-EFA3D5E0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DA0-E87C-4D7F-B987-2544DD1A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40E2-BE93-4F3C-B161-4C1B5693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3ABF-E105-4A7B-8B9E-FC7A89F5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D8A8-6537-43FB-A45B-3CB80A86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77EC-E8F5-4F63-863E-65125A5E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6C1B-92FC-4103-BFC3-A508A39D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CEB0-13C3-4231-B1DF-B839AA47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4DB9-D448-4534-85A3-9ADC15FA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2C9-1F81-48D9-8161-7DFC1A59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6C6C-1484-4F56-BFCF-F28B6984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882D-FA29-481A-8D5F-A73E40F2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03B1-C85B-45DE-AC9E-46A68CAD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0E07-D287-4075-BE72-76F0676A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2EE4-4D8A-4824-87B7-7361607D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7EA-E402-483D-90B6-ECFBCC55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272-321C-4C4B-9065-7D631065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C09-4745-4136-AF9A-6C4C01B0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50E-9EDD-46CA-9F4E-2030A1FD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FBB-E1EA-4E3B-BCEA-4B23E8D7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798-D118-4BE2-9597-2F713748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717-4E72-443C-B313-B2853A7B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ectur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9B5F-7728-484D-A91B-3D768E0776C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ectur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C809-79EF-4E85-A9CF-5350785589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2-13.ht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60680"/>
            <a:ext cx="777240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6633"/>
                </a:solidFill>
                <a:latin typeface="Garamond"/>
              </a:rPr>
              <a:t>IT 223 – Data Analysis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8080" y="42667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8: 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763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ul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of C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077320" y="380880"/>
            <a:ext cx="2761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EC26-72ED-45E2-A102-5039AC93C42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fferent correl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24160" y="1600200"/>
            <a:ext cx="44942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CF6-40D1-45FE-918E-21299D5E07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unders about Correl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a high correlation between the gender of American workers and their inco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found a high (r=1.09) between students’ ratings of faculty teaching and ratings made by other faculty memb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rrelation between planting rate and yield of corn was found to be r=0.23 bush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54C-B4E6-4782-AFDF-68E7513DDF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ge vs. Mean He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25480" y="1600200"/>
            <a:ext cx="56912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003-8645-4209-988F-9FA47928543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 </a:t>
            </a:r>
            <a:r>
              <a:rPr b="0" lang="en-US" sz="4200" spc="-1" strike="noStrike">
                <a:solidFill>
                  <a:srgbClr val="ff0066"/>
                </a:solidFill>
                <a:latin typeface="Garamond"/>
              </a:rPr>
              <a:t>predict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mean height at age 32 month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44560" y="1600200"/>
            <a:ext cx="565308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E8F-8878-4951-9CB2-9F60D70AC4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ake Home Mess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ties of Cor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73480" y="1428840"/>
            <a:ext cx="10800" cy="11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16120" y="14288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859120" y="14288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987720" y="14288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186520" y="1428840"/>
            <a:ext cx="10800" cy="11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5672160" y="142884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E67-CC23-4144-A627-5BE7981B6F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mework 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ing in 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Page 123 – 13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rcises in 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2.10, 2.22, 2.26, 2.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e 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Thursday, Apr. 27,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431-65AC-4ACB-A35A-A2375D6814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idterm Ex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esday, Apr 25, 2006,  6pm – 9p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t: 25 multiple choice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verage: Up through and including section 2.2 of our text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book, no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culators okay, no lapto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miss the exam, there is no make-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L students must register for exam via CO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please do it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F9C-81F0-41D9-8B35-B694A286D7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view: Scatterplo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hows relationship between 2 vari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lot observations of different individuals in a two-dimensional grap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ach point in a scatterplot corresponds to 2 variables of the same individ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Jus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graph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, no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numer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F5E-4EAD-42E7-A057-45DFE8F979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ich one shows a stronger relationship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50960" y="1600200"/>
            <a:ext cx="404028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008-2942-40E8-8175-471C0F2E02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rrel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quantity used to measure the direction </a:t>
            </a: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strength of the linear relationship between two vari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ten written as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called the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 correlation coefficien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just the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 corre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wo variables, X and Y, we sometimes write corr(X,Y) for 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9C8-EF70-4CCD-91EA-840713260D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181160"/>
            <a:ext cx="8531280" cy="45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07A-2199-49EA-9BD4-9E3ED18C9E1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ar dealer wants to find the relationship between the odometer reading and the selling price of used c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andom sample of 100 cars is selected, and the data are summarized as follow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cor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-1356256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6597.6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54.9) = -0.8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362320" y="3733920"/>
                <a:ext cx="41544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015920" y="4114800"/>
                <a:ext cx="7415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58D-2182-4605-AD36-32D3B04AB5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Scatter Plots and Corre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160-2912-4EE0-AC29-782C259D09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erties of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cates positive linear asso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dicates negative linear associ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oser tha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s toward 1 or –1, the stronger the linear association 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1 or 1 occurs only when the points in the scatterplot lie along a straight l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311-F159-41F9-BFC7-FBE510B98E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erties of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69680"/>
            <a:ext cx="77724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measures only the linear relationship between two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rr(X, Y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 +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variables have to be quantitat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ing units of X and Y does not affect the value of r (invariant to rescal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itive to outli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:True or Fals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= 0 means there is no association between two vari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CFD-1E69-4583-BC48-43530B23B5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9:38:19Z</dcterms:created>
  <dc:creator> G. Andrus</dc:creator>
  <dc:description/>
  <dc:language>en-US</dc:language>
  <cp:lastModifiedBy>gandrus</cp:lastModifiedBy>
  <cp:lastPrinted>2004-02-02T15:47:19Z</cp:lastPrinted>
  <dcterms:modified xsi:type="dcterms:W3CDTF">2006-04-17T12:37:40Z</dcterms:modified>
  <cp:revision>144</cp:revision>
  <dc:subject>Statistics</dc:subject>
  <dc:title>IT223 - Data Analysis</dc:title>
</cp:coreProperties>
</file>